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3.jpeg" ContentType="image/jpeg"/>
  <Override PartName="/ppt/media/image5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dt" idx="4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ftr" idx="4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 type="sldNum" idx="4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2C456-D53C-4E48-B400-C24C85BDF90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39500-DCBF-4DAB-9E1D-E22306AEC76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ED2D5-A21B-4C09-ACCB-B908DC90403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FF83F-5FF5-4544-A52C-F2E638AF806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7CEB1-0EC6-40DC-841A-146639F258C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B39D0-878D-4654-A985-3E5BAF64CA3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DFAED-AAF0-49C5-A05B-675AA31D283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EC78F-CE39-456B-9D0C-727D6A51F84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B402F-38F4-4879-910B-ACC507702E4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94F67-C0C8-4D26-9F67-4F46A69AE3B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92E1-52FE-4073-BAC5-123F24CEB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B1DE-99C0-4973-894D-0AA5F4D4A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E94E55-3CC4-42EF-ACC5-B660B9B8A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846E80-F118-4F97-AC2C-C9B06ED32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465CB2-FF6B-4B49-97EC-67BB88815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AF67F0-4DEC-49E1-A284-141418EA7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D568C1-2A3D-4560-8019-A53FFAD74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399A30-13D0-4D46-BACD-21653665A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C5FD27-8EB2-4BDE-930D-D76F8AB8B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9AF7AD-CD42-424B-93B3-ECE02C6EC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795818-71FF-4B91-A000-30029C2E7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493F25-E706-4E58-967C-7101FA9E5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319A-EE79-44B2-8CA2-0181DBD1E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61BF62-3758-4025-9122-B4E3E75E2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1529B0-C68A-4157-B25D-42A636AC3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C8914D-E7C4-4B5A-8413-558854DB3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0334BC-6AD8-4BDD-B047-46127D15D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4FC5A0-104F-4F4C-9038-E761A8499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15069A-D730-4DE5-87A6-47765E583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4CA863-CEFD-4C7F-8BD2-B3ADEF414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4E4BB8-2F7B-48DF-A0E0-B61DE470B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9B4843-86B4-4BC5-BAD7-4131BE791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DBBF4C-161C-4FDD-9AE7-0E4601CED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5316-CA39-4189-BA3B-DC02521D4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06AD2A-8C9F-4FE6-8127-0DC5D08C2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1D6F1A-98AB-4C73-8ADC-3BC189694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D443BD-D23D-4419-9E23-A43C89FF3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CFA03F-DECE-40F8-8C20-C5B1EDC1B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A267C7-D9A5-431E-A92F-F1A1C1EC8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5855E1-F04E-40DB-977B-759E3D719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EE7201-40C0-4382-B80D-3FD85F17B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027FD0-D04F-4D6D-817F-F86EC69DD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92F5DF-2832-43AD-A1CC-4AE14FB77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CAE002-588F-41C5-B7D8-0005757BE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E5949-BAFD-4C84-BD09-D677F134A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A12043-FE00-471D-929F-A20165C9F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EE40C3-3810-4344-A504-C4222E707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48D72B-2746-465C-9FBE-0568E9B4C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BF2BF3-C726-48AE-BEBB-C14D918C2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F0D393-545A-4856-B800-F90590336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C931D6-25B0-42ED-AD8F-444B244CA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866313-3084-47B9-8F7E-39CA7354A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26740E-F446-474C-A450-9281B5F75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C0B61C-9066-4E50-B7A6-07D03F57A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921D2A-94FF-4AA1-9A29-ED92133A5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6A840-2E0D-4581-A75F-E99CCFC17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0F6F5B-AE28-46A3-B19B-81C5C86B3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213227-DEA5-4AE3-855C-3F9DA5614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136783-AFC8-40EB-A4E2-6C44C037A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EC7DA1-B188-4819-BC21-141AE2138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0EBC7B-FABF-4EF6-A786-A9BBEF2F9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97B090-A629-41B7-A2C7-D3059C694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E0D196-87EB-483F-9AFA-0AE92BD1D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FFB019-2CA5-4FE7-A202-FBD99F3B4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ACFE74-3C1A-45CA-BDE9-37BF5BEE0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F08D26-E8DB-47A7-96E3-67AA08448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99B13-0BD0-42BE-9CF9-8A45262DD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EA2748-58B8-4E59-AC3C-3D60F4BD6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9871A8-9157-473A-959E-F50E1CA41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F1A816-F867-4AE7-ACE1-98F99A352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EBDD83-6B86-43E5-900E-5D3A4E8DC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09812F-6C10-48CC-A8AE-7202CE36A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981E36-9A0D-4837-B119-E4812D0DA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A1E409-FEA0-41E4-8D16-CE2063047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B75747-38CC-4F3A-9065-F10512FA3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B3D1F1-03D2-4D3D-884C-C69960D48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517044-3220-49C9-B5BF-C474A9C7B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9EA58-FD1F-49F5-9D94-3472E013E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E5DD0F-B280-4393-A8C2-E042A018B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D39B4A-B58E-47D5-920C-5D8E0B110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6667CB-A5B8-43D6-BD9F-17C0F97E7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D554A3-A197-4599-9E21-6559AD91F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BE2E8D-0778-485B-A9AC-C996686CF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5AC3BF-F794-49DC-B7D6-854659DF3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390DDE-ABF8-478D-A8A7-1C5361EDA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B41697-1BA5-43CD-A510-C6DF0CACC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525038-ABA5-4EC7-B136-665D45D33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7F262-0575-4F99-A923-55B4C3FA1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9D590-3CC4-4142-95D2-68689B12F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98EFA-5ACB-446A-B5D0-33740D5E4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4264-3639-47C5-A65E-464964EB1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1E438-7C82-4C97-AB40-F257D868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15298-298A-4AF0-80EB-3428D6B30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CFDD3-D307-45A1-A045-A8CEAC653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8A825-515C-4A04-AA2A-F50E1AB28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2E32C-66C3-4AD9-93AB-BBA8DBC35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955DE-7BDB-42DF-857E-FFA82586C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4328F-B05C-47AA-ABD6-235BA831C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3E54B-0D86-42E8-A071-0E4C71FAB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143BC-D5C8-42B1-A1C0-ADD48E586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24F28-A417-42D8-8D70-AEDC41F80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E9DC-9538-4A23-A4EB-A0DF9857B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B13E4-2DDE-462B-9723-578945CC8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3EF76-1118-489F-865C-200E12E57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66414-51F1-4072-93F0-DFA0CB550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211A3-F911-4EA7-B104-C0CC6926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B534B-32EA-4142-9ED6-5E9A6474E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B2583-1FE2-46A0-881D-D6B56F382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AEB09-73A1-444A-BDBB-8704B57B3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1305C-E2F9-41A5-BDA0-E595468C8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B0BC4-60E5-4FD3-9D9F-CA7279990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0E0E1-A12F-4916-95D2-516526770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DB8C-FA26-4839-9137-D7A1D0C47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D1C3F-B43C-4D2E-95BB-42B5E48F7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3A3C0-795D-48FD-B731-CC65B4FF9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5A0E4-F88C-4761-9CAD-C316DDC4A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72C8D-55CA-4C1F-9FD6-DD83E3D8C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9EEA4-1184-4E9E-B2D2-5E2E52D7A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B0552-1EAA-41EC-9B40-C40761D45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C844A-3668-4DCF-A465-70C1D010B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53AFF-90C3-40FE-8241-9E2F16C3F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28489-D2C0-41F5-AA7A-E9E61A4BD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08B9C5-CC95-4F5B-AE0C-6CE312FFD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8837-75FC-4B43-8F0E-FE1A4BC22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BDCABE-5074-4992-8EB9-F501CDE38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C114FD-CB51-423E-A2FC-F6A1EE2B8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2B65C5-FEDB-45EB-8FAD-DCB4D7C44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B00D7A-ABE3-4197-BB74-D2EC5B803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33BDFB-202B-49CF-98FF-24515AFB1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5FAD02-2375-4D3F-9DA0-93CEEF6B4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90EB8A-771E-41BA-8EB6-DBE1F7DA6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86B280-4E0D-40D5-811D-409714C29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2D77AF-2E22-4874-A819-F1A42471F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B64F9B-3782-4B2A-8AAA-76E5BA580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708F-7FDE-47C2-AAE5-7202EA4C6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4D75B6-A180-4BBE-88B2-DF779318E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F180A0-806D-4B28-8E8D-39BBCF865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6418F5-FBD5-4F19-AE3F-FFC89F796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36ABDE-7978-4766-B2B3-7BF250B0A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20B5B0-3F41-4226-ABBC-1D33049E7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6F5031-D538-409D-B378-11A5A5649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620E19-3E3B-409B-BF11-BE75CBE9C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B8ED46-D2F8-49CF-AAC0-4F72DDE9C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21583E-DF56-4063-B544-ABB0343EF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142974-37EE-4459-AD53-61778C80C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1650-E401-4B7B-896D-423A72D60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9067A2-19FE-4011-BC09-D6AA8DD04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CE1FD4-91BE-4A21-93E5-E8B12214C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C376A6-0925-4C61-A3DD-00CD070C2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56F3D1-B03B-451D-A1A0-5ECDC7186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CC344C-C54E-4969-B589-BA95D82CD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E450F4-5B74-4A6F-B7C5-4673468B6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CA6354-877E-47F8-ADA8-58D53F036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F2158E-AFF2-4AB9-B546-F802326CC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701290-C5FD-4E60-B594-B4B9F83F2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D160FE-8346-4888-B123-8CFE040A6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4FE3-FFBC-46A7-8E8F-8DDD1CC5B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AFDB71-2774-44E5-9D77-2D094F4FD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E88AA8-8F37-4565-8199-BB54F8CC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DA2C6A-0892-4089-BABC-8AE519243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A4389D-EC10-4A8F-8506-F1D6845AD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6EC5F4-3FDB-4437-B3C1-D97EBCA60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73DB7E-3803-4A5D-BFBD-1D4C7ED6D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5DFA37-7B68-4EB9-B744-80F7E1CDB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14ECF5-9F45-42D0-8AF9-F373334C3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532B8B-AFDF-4172-BA7F-B0CBB38F2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7A7711-A074-4A81-BAA4-A1DA22E6F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01C1-95F9-4918-8D83-B9F342A3B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C21CB8-1D81-411E-9FFA-D3B4E2100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8C338F-C845-4A18-89FE-3151A4D63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9937A2-E24B-4F84-9FA1-6B33666B7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A3518A-D8AD-4BE4-B9B7-39ABF566E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B87684-4E90-4979-BA1E-325CE5A70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750BEC-36D4-430D-971C-D738F4F94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6B0910-24A3-4D3A-8128-E65EC35E8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4153D0-A423-49B4-84B1-1AFFD87B6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145D70-BDE5-4DCB-96E7-F4816D8A6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93F8AB-0722-4028-8102-CE7049FCC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" name="Freeform 2051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2052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F5DCC-F8EF-4223-A82B-EA576C90EEC0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9D5F0-62BF-43A3-B172-3CD8F35197D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97" name="Freeform 2051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Arc 2052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9E4F9-08F4-4D2B-950E-7710E6CA0F95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61E40-E8F8-4908-A5BD-C6CC0807832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441" name="Freeform 2051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Arc 2052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FD886-FD2A-402A-A20D-FE5B8C59EA05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D3F8D-9622-41D4-B406-6ECB3A65894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485" name="Freeform 2051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Arc 2052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DA818-91BF-4F0A-AEF8-E0FBA3BEDFDF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B9495-FC48-417A-B44A-5E5A9C128D6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529" name="Freeform 2051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Arc 2052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37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58692-F4A8-40CF-800E-F5F6B28F13E4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38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39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99236-ABD2-414F-A136-C7EDD609FD9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2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573" name="Freeform 2051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Arc 2052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40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B7815-7360-4612-9E44-C11D29069EB6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ftr" idx="41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sldNum" idx="42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 anchorCtr="1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03074-9389-4697-955C-91411B7C0F2E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26"/>
          <p:cNvGrpSpPr/>
          <p:nvPr/>
        </p:nvGrpSpPr>
        <p:grpSpPr>
          <a:xfrm>
            <a:off x="-7758000" y="1463760"/>
            <a:ext cx="16902000" cy="10794960"/>
            <a:chOff x="-7758000" y="1463760"/>
            <a:chExt cx="16902000" cy="10794960"/>
          </a:xfrm>
        </p:grpSpPr>
        <p:sp>
          <p:nvSpPr>
            <p:cNvPr id="45" name="Freeform 1027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1028"/>
            <p:cNvSpPr/>
            <p:nvPr/>
          </p:nvSpPr>
          <p:spPr>
            <a:xfrm>
              <a:off x="-7758000" y="1463760"/>
              <a:ext cx="13452480" cy="10794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92B14-4966-459D-927C-1613350B916F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789DE-5056-4750-A120-80BF4AE83E7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89" name="Freeform 2051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Arc 2052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E8A5D-A18A-4111-B62D-ADA0160F30DE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110A5-0BEF-498D-BE1F-F1D7A16261D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33" name="Freeform 2051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Arc 2052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04058-295E-4232-9688-7FE0EDC279DA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30BBF-C29B-42E2-8BD5-2956490A55B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77" name="Freeform 2051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Arc 2052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8EC76-F1A3-48A5-9821-9A6A147FE140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24840-D763-4995-8CD4-7ADA9652474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221" name="Freeform 2051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Arc 2052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6B893-16AB-45AC-9EA3-5418F26941C0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9D850-EDAF-474D-8B5B-4A65405A55E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265" name="Freeform 2051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Arc 2052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15C9C-D7AF-43BA-A3DF-DBF21899AFE0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73DE0-1981-4DEB-9171-CC18CDCE65C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09" name="Freeform 2051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Arc 2052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91CDC-0E62-497C-A55D-53C5D6244D37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35185-CE39-4ADF-80DE-8B6C05CED29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53" name="Freeform 2051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Arc 2052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B0AC3-6202-46E4-B6C7-9C61985F9744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E6A25-22AD-4F80-9764-932B9BFBA85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371600" y="44193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   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228240" y="4419720"/>
            <a:ext cx="8458200" cy="213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c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Основы организации процесс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          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сопровождения детей с СДВГ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                                    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в начальной школе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Rectangle 1031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4052D-1475-4120-A7EE-8AA60AD5BDBA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Rectangle 1033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CE17E-B5C0-406D-85D6-D0EE8AFD417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7" name="Picture 8" descr=""/>
          <p:cNvPicPr/>
          <p:nvPr/>
        </p:nvPicPr>
        <p:blipFill>
          <a:blip r:embed="rId1"/>
          <a:stretch/>
        </p:blipFill>
        <p:spPr>
          <a:xfrm>
            <a:off x="0" y="-380880"/>
            <a:ext cx="9144000" cy="7772400"/>
          </a:xfrm>
          <a:prstGeom prst="rect">
            <a:avLst/>
          </a:prstGeom>
          <a:ln w="0">
            <a:noFill/>
          </a:ln>
        </p:spPr>
      </p:pic>
      <p:sp>
        <p:nvSpPr>
          <p:cNvPr id="628" name="Прямоугольник 7"/>
          <p:cNvSpPr/>
          <p:nvPr/>
        </p:nvSpPr>
        <p:spPr>
          <a:xfrm>
            <a:off x="533520" y="4419720"/>
            <a:ext cx="8610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Основы организации процесс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сопровождения детей с СДВГ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                                 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в начальной школе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440" y="-38124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66"/>
                </a:solidFill>
                <a:latin typeface="Times New Roman"/>
              </a:rPr>
              <a:t>Третья степень тяжести (не более 1-5%)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685800" y="838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 u="sng">
                <a:solidFill>
                  <a:srgbClr val="ffcc66"/>
                </a:solidFill>
                <a:uFillTx/>
                <a:latin typeface="Times New Roman"/>
              </a:rPr>
              <a:t>Цель </a:t>
            </a:r>
            <a:r>
              <a:rPr b="1" lang="ru-RU" sz="2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ffcc66"/>
                </a:solidFill>
                <a:latin typeface="Times New Roman"/>
              </a:rPr>
              <a:t>может быть принята только в интересных и доступных для них заданиях после 3-5 раз предъявления и объяснения инструкции, но как правило, до конца задания,всёравно не удерживается</a:t>
            </a:r>
            <a:r>
              <a:rPr b="0" lang="en-US" sz="2200" spc="-1" strike="noStrike">
                <a:solidFill>
                  <a:srgbClr val="ffcc66"/>
                </a:solidFill>
                <a:latin typeface="Times New Roman"/>
              </a:rPr>
              <a:t>:</a:t>
            </a:r>
            <a:r>
              <a:rPr b="0" lang="ru-RU" sz="2200" spc="-1" strike="noStrike">
                <a:solidFill>
                  <a:srgbClr val="ffcc66"/>
                </a:solidFill>
                <a:latin typeface="Times New Roman"/>
              </a:rPr>
              <a:t> у кого-то из-за повышенной отвлекаемости, у кого-то из-за быстрого пресыщения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 u="sng">
                <a:solidFill>
                  <a:srgbClr val="ffcc66"/>
                </a:solidFill>
                <a:uFillTx/>
                <a:latin typeface="Times New Roman"/>
              </a:rPr>
              <a:t>Формируемая ими модель</a:t>
            </a:r>
            <a:r>
              <a:rPr b="0" lang="ru-RU" sz="2200" spc="-1" strike="noStrike">
                <a:solidFill>
                  <a:srgbClr val="ffcc66"/>
                </a:solidFill>
                <a:latin typeface="Times New Roman"/>
              </a:rPr>
              <a:t> решения задачи отличается явной и выраженной неадекватностью. Очень часто модель не отражает даже второстепенные признаки поскольку нет осознанного обдумывания проблемной ситуации, а есть только манипулирование известными данными и «угадывание», подбор (добор) целого образа. Это объясняется поверхностным анализом её условий и, в меньшей степени, неумения обобщать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 u="sng">
                <a:solidFill>
                  <a:srgbClr val="ffcc66"/>
                </a:solidFill>
                <a:uFillTx/>
                <a:latin typeface="Times New Roman"/>
              </a:rPr>
              <a:t>Планировать </a:t>
            </a:r>
            <a:r>
              <a:rPr b="0" lang="ru-RU" sz="2200" spc="-1" strike="noStrike">
                <a:solidFill>
                  <a:srgbClr val="ffcc66"/>
                </a:solidFill>
                <a:latin typeface="Times New Roman"/>
              </a:rPr>
              <a:t>пытаются только при возникающих трудностях (ошибках), но чаще вообще не планируют. Основной способ работы- действия методом проб и ошибок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 u="sng">
                <a:solidFill>
                  <a:srgbClr val="ffcc66"/>
                </a:solidFill>
                <a:uFillTx/>
                <a:latin typeface="Times New Roman"/>
              </a:rPr>
              <a:t>Самоконтроль </a:t>
            </a:r>
            <a:r>
              <a:rPr b="0" lang="ru-RU" sz="2200" spc="-1" strike="noStrike">
                <a:solidFill>
                  <a:srgbClr val="ffcc66"/>
                </a:solidFill>
                <a:latin typeface="Times New Roman"/>
              </a:rPr>
              <a:t>практически отсутствует, «прямую помощь» принимают только на наглядном уровне, но из-за сниженного уровня осознания она также мало эффективна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5291F-59C6-44A3-B034-AFDE16864C1D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C60BB-FD50-457E-97B9-3D6EF80FA39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440" y="-304920"/>
            <a:ext cx="80802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Times New Roman"/>
              </a:rPr>
              <a:t>По критерию развитости социально-эмоциональной зрелости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68256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Times New Roman"/>
              </a:rPr>
              <a:t>Дети третей степени тяжести отличаются полной эмоциональной незрелостью- совершенным неумением и нежеланием управлять своими эмоциями, отсутствием учебной мотивации, «полная несформированность позиции ученика». С первого дня учёбы доминируют всевозможные поведенческие отклонения (хождение, бегание во время уроков, открытая игра). Дети либо совершенно расторможены, либо заторможены (сонливы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Times New Roman"/>
              </a:rPr>
              <a:t>Быстро становятся изгоями в класс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7405E-B574-4836-878D-44DEB30C0F2F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D2D4B-8292-408D-AA67-AF09DC58D26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66"/>
                </a:solidFill>
                <a:latin typeface="Times New Roman"/>
              </a:rPr>
              <a:t>По выраженности явлений церебрастении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знаки церебрастении отчётливо проявляются ещё до начала учёбы, к моменту начала обучения в школе уже имеют ту или иную степень пед. запущенности. С первого дня учёбы такие дети дают выраженные поведенческие нарушения, причём к концу дня усиливаются эмоционально-аффективные расстройства- немотивированный плач, драки. Часто к концу первой недели дети заболевают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37FD0-9508-4D2A-94B3-2A57317121F7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93130-0AC0-4C5D-97E8-EDD419BC124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66"/>
                </a:solidFill>
                <a:latin typeface="Arial"/>
              </a:rPr>
              <a:t>Маршрут сопровождения – ядро системной  помощи ребенку с СДВГ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0" y="1356840"/>
            <a:ext cx="9144000" cy="2000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истема прямых договоров с ГОУ округа с Центром ПМСС позволяет в течение 3 недель от момента обращения семьи в Центр получить индивидуальный маршрут сопровождения, где фиксируется объем помощи, сроки и участники сопровождения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4" name="Organization Chart 53"/>
          <p:cNvGrpSpPr/>
          <p:nvPr/>
        </p:nvGrpSpPr>
        <p:grpSpPr>
          <a:xfrm>
            <a:off x="214200" y="3357720"/>
            <a:ext cx="8786520" cy="2642400"/>
            <a:chOff x="214200" y="3357720"/>
            <a:chExt cx="8786520" cy="2642400"/>
          </a:xfrm>
        </p:grpSpPr>
        <p:sp>
          <p:nvSpPr>
            <p:cNvPr id="675" name="AutoShape 54"/>
            <p:cNvSpPr/>
            <p:nvPr/>
          </p:nvSpPr>
          <p:spPr>
            <a:xfrm>
              <a:off x="214200" y="3357720"/>
              <a:ext cx="8786520" cy="2642400"/>
            </a:xfrm>
            <a:custGeom>
              <a:avLst/>
              <a:gdLst>
                <a:gd name="textAreaLeft" fmla="*/ 171000 w 8786520"/>
                <a:gd name="textAreaRight" fmla="*/ 8615520 w 8786520"/>
                <a:gd name="textAreaTop" fmla="*/ 171000 h 2642400"/>
                <a:gd name="textAreaBottom" fmla="*/ 2471400 h 2642400"/>
              </a:gdLst>
              <a:ahLst/>
              <a:rect l="textAreaLeft" t="textAreaTop" r="textAreaRight" b="textAreaBottom"/>
              <a:pathLst>
                <a:path w="71818" h="21600">
                  <a:moveTo>
                    <a:pt x="0" y="0"/>
                  </a:moveTo>
                  <a:lnTo>
                    <a:pt x="71818" y="0"/>
                  </a:lnTo>
                  <a:lnTo>
                    <a:pt x="71818" y="21600"/>
                  </a:lnTo>
                  <a:lnTo>
                    <a:pt x="0" y="21600"/>
                  </a:lnTo>
                  <a:close/>
                </a:path>
                <a:path fill="lightenLess" w="71818" h="21600">
                  <a:moveTo>
                    <a:pt x="0" y="0"/>
                  </a:moveTo>
                  <a:lnTo>
                    <a:pt x="71818" y="0"/>
                  </a:lnTo>
                  <a:lnTo>
                    <a:pt x="70418" y="1400"/>
                  </a:lnTo>
                  <a:lnTo>
                    <a:pt x="1400" y="1400"/>
                  </a:lnTo>
                  <a:close/>
                </a:path>
                <a:path fill="darken" w="71818" h="21600">
                  <a:moveTo>
                    <a:pt x="71818" y="0"/>
                  </a:moveTo>
                  <a:lnTo>
                    <a:pt x="71818" y="21600"/>
                  </a:lnTo>
                  <a:lnTo>
                    <a:pt x="70418" y="20200"/>
                  </a:lnTo>
                  <a:lnTo>
                    <a:pt x="70418" y="1400"/>
                  </a:lnTo>
                  <a:close/>
                </a:path>
                <a:path fill="darkenLess" w="71818" h="21600">
                  <a:moveTo>
                    <a:pt x="7181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0418" y="20200"/>
                  </a:lnTo>
                  <a:close/>
                </a:path>
                <a:path fill="lighten" w="7181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1818" h="21600">
                  <a:moveTo>
                    <a:pt x="35909" y="3837"/>
                  </a:moveTo>
                  <a:lnTo>
                    <a:pt x="38485" y="6448"/>
                  </a:lnTo>
                  <a:lnTo>
                    <a:pt x="38485" y="4707"/>
                  </a:lnTo>
                  <a:lnTo>
                    <a:pt x="40261" y="4707"/>
                  </a:lnTo>
                  <a:lnTo>
                    <a:pt x="40261" y="8224"/>
                  </a:lnTo>
                  <a:lnTo>
                    <a:pt x="42872" y="10800"/>
                  </a:lnTo>
                  <a:lnTo>
                    <a:pt x="41218" y="10800"/>
                  </a:lnTo>
                  <a:lnTo>
                    <a:pt x="41218" y="17989"/>
                  </a:lnTo>
                  <a:lnTo>
                    <a:pt x="30600" y="17989"/>
                  </a:lnTo>
                  <a:lnTo>
                    <a:pt x="30600" y="10800"/>
                  </a:lnTo>
                  <a:lnTo>
                    <a:pt x="28946" y="10800"/>
                  </a:lnTo>
                  <a:close/>
                </a:path>
                <a:path fill="darkenLess" w="71818" h="21600">
                  <a:moveTo>
                    <a:pt x="38485" y="6448"/>
                  </a:moveTo>
                  <a:lnTo>
                    <a:pt x="38485" y="4707"/>
                  </a:lnTo>
                  <a:lnTo>
                    <a:pt x="40261" y="4707"/>
                  </a:lnTo>
                  <a:lnTo>
                    <a:pt x="40261" y="8224"/>
                  </a:lnTo>
                  <a:close/>
                </a:path>
                <a:path fill="darkenLess" w="71818" h="21600">
                  <a:moveTo>
                    <a:pt x="34986" y="14299"/>
                  </a:moveTo>
                  <a:lnTo>
                    <a:pt x="36831" y="14299"/>
                  </a:lnTo>
                  <a:lnTo>
                    <a:pt x="36831" y="17989"/>
                  </a:lnTo>
                  <a:lnTo>
                    <a:pt x="41218" y="17989"/>
                  </a:lnTo>
                  <a:lnTo>
                    <a:pt x="41218" y="10800"/>
                  </a:lnTo>
                  <a:lnTo>
                    <a:pt x="30600" y="10800"/>
                  </a:lnTo>
                  <a:lnTo>
                    <a:pt x="30600" y="17989"/>
                  </a:lnTo>
                  <a:lnTo>
                    <a:pt x="34986" y="17989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76" name="_s1028"/>
            <p:cNvCxnSpPr>
              <a:stCxn id="677" idx="0"/>
              <a:endCxn id="678" idx="2"/>
            </p:cNvCxnSpPr>
            <p:nvPr/>
          </p:nvCxnSpPr>
          <p:spPr>
            <a:xfrm flipV="1" rot="16200000">
              <a:off x="5880240" y="3140640"/>
              <a:ext cx="529200" cy="3075840"/>
            </a:xfrm>
            <a:prstGeom prst="bentConnector3">
              <a:avLst>
                <a:gd name="adj1" fmla="val 2614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79" name="_s1029"/>
            <p:cNvCxnSpPr>
              <a:stCxn id="680" idx="0"/>
              <a:endCxn id="678" idx="2"/>
            </p:cNvCxnSpPr>
            <p:nvPr/>
          </p:nvCxnSpPr>
          <p:spPr>
            <a:xfrm flipV="1">
              <a:off x="4606920" y="4414320"/>
              <a:ext cx="3960" cy="5292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81" name="_s1030"/>
            <p:cNvCxnSpPr>
              <a:stCxn id="682" idx="0"/>
              <a:endCxn id="678" idx="2"/>
            </p:cNvCxnSpPr>
            <p:nvPr/>
          </p:nvCxnSpPr>
          <p:spPr>
            <a:xfrm flipH="1" flipV="1" rot="5400000">
              <a:off x="2805120" y="3141000"/>
              <a:ext cx="529200" cy="3075840"/>
            </a:xfrm>
            <a:prstGeom prst="bentConnector3">
              <a:avLst>
                <a:gd name="adj1" fmla="val 2614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78" name="_s1031"/>
            <p:cNvSpPr/>
            <p:nvPr/>
          </p:nvSpPr>
          <p:spPr>
            <a:xfrm>
              <a:off x="3289320" y="3357720"/>
              <a:ext cx="2635920" cy="105696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ЦПМСС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_s1032"/>
            <p:cNvSpPr/>
            <p:nvPr/>
          </p:nvSpPr>
          <p:spPr>
            <a:xfrm>
              <a:off x="214200" y="4943160"/>
              <a:ext cx="2635920" cy="105696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ГОУ округа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_s1033"/>
            <p:cNvSpPr/>
            <p:nvPr/>
          </p:nvSpPr>
          <p:spPr>
            <a:xfrm>
              <a:off x="3289320" y="4943160"/>
              <a:ext cx="2635920" cy="105696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Семья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_s1034"/>
            <p:cNvSpPr/>
            <p:nvPr/>
          </p:nvSpPr>
          <p:spPr>
            <a:xfrm>
              <a:off x="6364440" y="4943160"/>
              <a:ext cx="2635920" cy="105696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Поликлиника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5712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«Один в поле - не воин»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684" name="Diagram 3"/>
          <p:cNvGrpSpPr/>
          <p:nvPr/>
        </p:nvGrpSpPr>
        <p:grpSpPr>
          <a:xfrm>
            <a:off x="1112760" y="979200"/>
            <a:ext cx="6840360" cy="5830200"/>
            <a:chOff x="1112760" y="979200"/>
            <a:chExt cx="6840360" cy="5830200"/>
          </a:xfrm>
        </p:grpSpPr>
        <p:sp>
          <p:nvSpPr>
            <p:cNvPr id="685" name="_s2052"/>
            <p:cNvSpPr/>
            <p:nvPr/>
          </p:nvSpPr>
          <p:spPr>
            <a:xfrm flipH="1">
              <a:off x="2822760" y="3894120"/>
              <a:ext cx="85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_s2053"/>
            <p:cNvSpPr/>
            <p:nvPr/>
          </p:nvSpPr>
          <p:spPr>
            <a:xfrm>
              <a:off x="1112760" y="3165480"/>
              <a:ext cx="1709640" cy="14572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ff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ffffff"/>
                  </a:solidFill>
                  <a:latin typeface="Arial"/>
                </a:rPr>
                <a:t>Социальные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ffffff"/>
                  </a:solidFill>
                  <a:latin typeface="Arial"/>
                </a:rPr>
                <a:t>проблемы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_s2054"/>
            <p:cNvSpPr/>
            <p:nvPr/>
          </p:nvSpPr>
          <p:spPr>
            <a:xfrm>
              <a:off x="4533120" y="4622760"/>
              <a:ext cx="0" cy="729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_s2055"/>
            <p:cNvSpPr/>
            <p:nvPr/>
          </p:nvSpPr>
          <p:spPr>
            <a:xfrm>
              <a:off x="3678120" y="5352120"/>
              <a:ext cx="1709640" cy="1457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ff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ffffff"/>
                  </a:solidFill>
                  <a:latin typeface="Arial"/>
                </a:rPr>
                <a:t>Образовательные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i="1" lang="ru-RU" sz="1600" spc="-1" strike="noStrike">
                  <a:solidFill>
                    <a:srgbClr val="ffffff"/>
                  </a:solidFill>
                  <a:latin typeface="Arial"/>
                </a:rPr>
                <a:t>проблемы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_s2056"/>
            <p:cNvSpPr/>
            <p:nvPr/>
          </p:nvSpPr>
          <p:spPr>
            <a:xfrm>
              <a:off x="5388120" y="3894120"/>
              <a:ext cx="85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_s2057"/>
            <p:cNvSpPr/>
            <p:nvPr/>
          </p:nvSpPr>
          <p:spPr>
            <a:xfrm>
              <a:off x="6243480" y="3165480"/>
              <a:ext cx="1709640" cy="1457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ff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ffffff"/>
                  </a:solidFill>
                  <a:latin typeface="Arial"/>
                </a:rPr>
                <a:t>Проблемы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i="1" lang="ru-RU" sz="1600" spc="-1" strike="noStrike">
                  <a:solidFill>
                    <a:srgbClr val="ffffff"/>
                  </a:solidFill>
                  <a:latin typeface="Arial"/>
                </a:rPr>
                <a:t>развития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ffffff"/>
                  </a:solidFill>
                  <a:latin typeface="Arial"/>
                </a:rPr>
                <a:t>личности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_s2058"/>
            <p:cNvSpPr/>
            <p:nvPr/>
          </p:nvSpPr>
          <p:spPr>
            <a:xfrm flipV="1">
              <a:off x="4533120" y="2436120"/>
              <a:ext cx="0" cy="729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_s2059"/>
            <p:cNvSpPr/>
            <p:nvPr/>
          </p:nvSpPr>
          <p:spPr>
            <a:xfrm>
              <a:off x="3678120" y="979200"/>
              <a:ext cx="1709640" cy="14572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ff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ffffff"/>
                  </a:solidFill>
                  <a:latin typeface="Arial"/>
                </a:rPr>
                <a:t>Поведенческие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ffffff"/>
                  </a:solidFill>
                  <a:latin typeface="Arial"/>
                </a:rPr>
                <a:t>проблемы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_s2060"/>
            <p:cNvSpPr/>
            <p:nvPr/>
          </p:nvSpPr>
          <p:spPr>
            <a:xfrm>
              <a:off x="3678120" y="3165480"/>
              <a:ext cx="1709640" cy="14572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3366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94" name="Picture 3" descr=""/>
            <p:cNvPicPr/>
            <p:nvPr/>
          </p:nvPicPr>
          <p:blipFill>
            <a:blip r:embed="rId6"/>
            <a:stretch/>
          </p:blipFill>
          <p:spPr>
            <a:xfrm>
              <a:off x="3048840" y="2631240"/>
              <a:ext cx="3048840" cy="2493360"/>
            </a:xfrm>
            <a:prstGeom prst="rect">
              <a:avLst/>
            </a:prstGeom>
            <a:ln w="19080">
              <a:solidFill>
                <a:srgbClr val="ffff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«</a:t>
            </a:r>
            <a:r>
              <a:rPr b="1" lang="ru-RU" sz="3600" spc="-1" strike="noStrike">
                <a:solidFill>
                  <a:srgbClr val="ffcc66"/>
                </a:solidFill>
                <a:latin typeface="Times New Roman"/>
              </a:rPr>
              <a:t>Диагностический пакет педагога, педагога-психолога   обучающего ребёнка с СДВГ</a:t>
            </a:r>
            <a:r>
              <a:rPr b="1" lang="ru-RU" sz="4000" spc="-1" strike="noStrike">
                <a:solidFill>
                  <a:srgbClr val="ffcc66"/>
                </a:solidFill>
                <a:latin typeface="Times New Roman"/>
              </a:rPr>
              <a:t>»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66"/>
                </a:solidFill>
                <a:latin typeface="Times New Roman"/>
              </a:rPr>
              <a:t>В него вошли диагностические критерии СДВГ , представленные в МКБ- 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66"/>
                </a:solidFill>
                <a:latin typeface="Times New Roman"/>
              </a:rPr>
              <a:t>Тесты оценки внимания (Тулуз-Пьерона, таблицы Шульте и Бурдона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66"/>
                </a:solidFill>
                <a:latin typeface="Times New Roman"/>
              </a:rPr>
              <a:t>Адаптированная  нами для педагогов начальной школы методика В. И. Моросановой, оценивающая уровень сформированности в ребёнке способности к саморегуляции поведения и её стилевые особенност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29695-E789-41A2-8A54-C82A0489D233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86945-7201-4490-B4EC-B7A8A0E3789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Arial"/>
              </a:rPr>
              <a:t>Алгоритм сопровождения детей с СДВГ в образовательном учреждении</a:t>
            </a:r>
            <a:br>
              <a:rPr sz="3200"/>
            </a:b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228600" y="2361960"/>
            <a:ext cx="8686800" cy="2971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Шаг первый. </a:t>
            </a: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СДВГ  актуализируется педагогом (психологом) по наличию соответствия поведенческой симптоматики ученика критериям МКБ-10 (гиперактивности,  дефициту внимания и импульсивности)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D1F63-4C44-4D2B-A53A-233709DB5C5E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Номер слайда 4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DC608-3FA9-42B6-8CCC-E34F4A8EFA6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82560" y="152280"/>
            <a:ext cx="808056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cc66"/>
                </a:solidFill>
                <a:latin typeface="Arial"/>
              </a:rPr>
              <a:t>Требования</a:t>
            </a: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 к критериям МКБ-1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456840" y="1066320"/>
            <a:ext cx="8077320" cy="5410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-60948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66"/>
                </a:solidFill>
                <a:latin typeface="Times New Roman"/>
              </a:rPr>
              <a:t>Дебют симптомов в возрасте младше 6 ле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66"/>
                </a:solidFill>
                <a:latin typeface="Times New Roman"/>
              </a:rPr>
              <a:t>Постоянное их сохранение как минимум 6 месяце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66"/>
                </a:solidFill>
                <a:latin typeface="Times New Roman"/>
              </a:rPr>
              <a:t>Симптомы наблюдаются как минимум в двух социальных сферах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: </a:t>
            </a:r>
            <a:r>
              <a:rPr b="1" lang="ru-RU" sz="2800" spc="-1" strike="noStrike">
                <a:solidFill>
                  <a:srgbClr val="ffcc66"/>
                </a:solidFill>
                <a:latin typeface="Times New Roman"/>
              </a:rPr>
              <a:t>например, в детском коллективе и дом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66"/>
                </a:solidFill>
                <a:latin typeface="Times New Roman"/>
              </a:rPr>
              <a:t>Симптомы не являются проявлениями других заболевани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66"/>
                </a:solidFill>
                <a:latin typeface="Times New Roman"/>
              </a:rPr>
              <a:t>Имеются отчётливые нарушения обучения и социальных функци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66"/>
                </a:solidFill>
                <a:latin typeface="Times New Roman"/>
              </a:rPr>
              <a:t>Диагностическим критерием выступает сочетание не менее  5  симптомов гиперактивности, импульсивности и нарушений внимания, которое отмечается в течение не менее 6 месяцев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4402B-5F34-482B-9D4C-953BDA8668D4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3C8D4-BECC-44E5-ABCC-17FE553B7DB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0802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imes New Roman"/>
              </a:rPr>
              <a:t>           </a:t>
            </a:r>
            <a:r>
              <a:rPr b="1" lang="ru-RU" sz="3200" spc="-1" strike="noStrike">
                <a:solidFill>
                  <a:srgbClr val="ffcc66"/>
                </a:solidFill>
                <a:latin typeface="Times New Roman"/>
              </a:rPr>
              <a:t>Критерии СДВГ по МКБ-10</a:t>
            </a:r>
            <a:br>
              <a:rPr sz="3200"/>
            </a:br>
            <a:r>
              <a:rPr b="1" lang="ru-RU" sz="3200" spc="-1" strike="noStrike">
                <a:solidFill>
                  <a:srgbClr val="ffcc66"/>
                </a:solidFill>
                <a:latin typeface="Times New Roman"/>
              </a:rPr>
              <a:t>(Гиперактивность, нарушение внимания и импульсивность)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228600" y="1752120"/>
            <a:ext cx="8610480" cy="44960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imes New Roman"/>
              </a:rPr>
              <a:t>Гиперактивность</a:t>
            </a: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imes New Roman"/>
              </a:rPr>
              <a:t>неусидчивость, неспособность длительно сидеть на одном месте( поэтому не любит и не может играть в спокойные игры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imes New Roman"/>
              </a:rPr>
              <a:t>поведенчески суетлив, беспокое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imes New Roman"/>
              </a:rPr>
              <a:t>избыточная (и как правило бесцельная) двигательная активность (бегает, пытается куда-то влезть, совершает многочисленные посторонние движения , которые часто не замечает), либо проявляющаяся и </a:t>
            </a:r>
            <a:r>
              <a:rPr b="1" i="1" lang="ru-RU" sz="2400" spc="-1" strike="noStrike">
                <a:solidFill>
                  <a:srgbClr val="ffcc66"/>
                </a:solidFill>
                <a:latin typeface="Times New Roman"/>
              </a:rPr>
              <a:t>усиливающаяся при утомлении, </a:t>
            </a:r>
            <a:r>
              <a:rPr b="1" lang="ru-RU" sz="2400" spc="-1" strike="noStrike">
                <a:solidFill>
                  <a:srgbClr val="ffcc66"/>
                </a:solidFill>
                <a:latin typeface="Times New Roman"/>
              </a:rPr>
              <a:t>либо </a:t>
            </a:r>
            <a:r>
              <a:rPr b="1" i="1" lang="ru-RU" sz="2400" spc="-1" strike="noStrike">
                <a:solidFill>
                  <a:srgbClr val="ffcc66"/>
                </a:solidFill>
                <a:latin typeface="Times New Roman"/>
              </a:rPr>
              <a:t>наблюдаемой постоянно</a:t>
            </a:r>
            <a:r>
              <a:rPr b="1" lang="ru-RU" sz="2400" spc="-1" strike="noStrike">
                <a:solidFill>
                  <a:srgbClr val="ffcc66"/>
                </a:solidFill>
                <a:latin typeface="Times New Roman"/>
              </a:rPr>
              <a:t> вне связи с утомлением («как будто к нему прикрепили мотор»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cc66"/>
                </a:solidFill>
                <a:latin typeface="Times New Roman"/>
              </a:rPr>
              <a:t>чрезмерно болтлив (даже играя с собой, ребёнок может постоянно и громко говорить  вслух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16F5E-1F9D-42B9-BFB6-7978BE22388E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42619-BED7-4255-ABCB-21FD68F1CEA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2560" y="-360"/>
            <a:ext cx="808056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imes New Roman"/>
              </a:rPr>
              <a:t>Нарушение внимания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12" name=""/>
          <p:cNvSpPr txBox="1"/>
          <p:nvPr/>
        </p:nvSpPr>
        <p:spPr>
          <a:xfrm>
            <a:off x="152280" y="76176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66"/>
                </a:solidFill>
                <a:latin typeface="Times New Roman"/>
              </a:rPr>
              <a:t>с трудом сохраняет внимание при выполнении заданий или во время игр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66"/>
                </a:solidFill>
                <a:latin typeface="Times New Roman"/>
              </a:rPr>
              <a:t>не в состоянии исполнить задание до конца, быстро переходит от незавершённого- новому, что не связанно с негативным настроением или не пониманием сути задан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66"/>
                </a:solidFill>
                <a:latin typeface="Times New Roman"/>
              </a:rPr>
              <a:t>имеет сложности в выполнении заданий, требующих длительной </a:t>
            </a:r>
            <a:r>
              <a:rPr b="1" i="1" lang="ru-RU" sz="2000" spc="-1" strike="noStrike">
                <a:solidFill>
                  <a:srgbClr val="ffcc66"/>
                </a:solidFill>
                <a:latin typeface="Times New Roman"/>
              </a:rPr>
              <a:t>концентрации внимания</a:t>
            </a:r>
            <a:r>
              <a:rPr b="1" lang="ru-RU" sz="2000" spc="-1" strike="noStrike">
                <a:solidFill>
                  <a:srgbClr val="ffcc66"/>
                </a:solidFill>
                <a:latin typeface="Times New Roman"/>
              </a:rPr>
              <a:t> (избегает или высказывает агрессивность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66"/>
                </a:solidFill>
                <a:latin typeface="Times New Roman"/>
              </a:rPr>
              <a:t>имеет различные нарушения избирательного внимания(неспособность надолго сосредоточиться на предмете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66"/>
                </a:solidFill>
                <a:latin typeface="Times New Roman"/>
              </a:rPr>
              <a:t>проявления забывчивости в повседневных ситуациях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66"/>
                </a:solidFill>
                <a:latin typeface="Times New Roman"/>
              </a:rPr>
              <a:t>повышенно отвлекаем (легко отвлекается на постороннее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66"/>
                </a:solidFill>
                <a:latin typeface="Times New Roman"/>
              </a:rPr>
              <a:t>не может самостоятельно организовать продуктивную деятельность, но если и организует то не последователен в своих действиях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66"/>
                </a:solidFill>
                <a:latin typeface="Times New Roman"/>
              </a:rPr>
              <a:t>часто теряет личные вещи и предметы, необходимые для выполнения заданий, в школе и дом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66"/>
                </a:solidFill>
                <a:latin typeface="Times New Roman"/>
              </a:rPr>
              <a:t>имеются существенные колебания показателей внимания (если деятельность ребёнка связанна с заинтересованностью, увлечённостью и удовольствием, то они спосоны удерживать внимание часами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66"/>
                </a:solidFill>
                <a:latin typeface="Times New Roman"/>
              </a:rPr>
              <a:t>«не слушают» обращённую реч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66"/>
                </a:solidFill>
                <a:latin typeface="Times New Roman"/>
              </a:rPr>
              <a:t>демонстрируют неспособность удерживать внимание на деталях, поэтому не в состоянии следовать инструкция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66"/>
                </a:solidFill>
                <a:latin typeface="Times New Roman"/>
              </a:rPr>
              <a:t>допускают частые ошибки в сферах своей деятельности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50C4D-1738-4586-B307-642D1A32F04F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7A4D4-301A-4F22-BFDD-D18FCDB0815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99172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Times New Roman"/>
              </a:rPr>
              <a:t>Актуальность </a:t>
            </a: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cc66"/>
                </a:solidFill>
                <a:latin typeface="Arial"/>
              </a:rPr>
              <a:t>повышения педагогической компетентности в вопросах организации процесса сопровождения детей с СДВГ  в начальной школе обусловлена следующими факторами</a:t>
            </a: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:</a:t>
            </a:r>
            <a:br>
              <a:rPr sz="2800"/>
            </a:b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152280" y="228600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cc66"/>
                </a:solidFill>
                <a:latin typeface="Times New Roman"/>
              </a:rPr>
              <a:t>Ростом числа детей с СДВГ (5-10%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cc66"/>
                </a:solidFill>
                <a:latin typeface="Times New Roman"/>
              </a:rPr>
              <a:t>Образовательный процесс в школе- «слабое звено» детей с СДВГ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cc66"/>
                </a:solidFill>
                <a:latin typeface="Times New Roman"/>
              </a:rPr>
              <a:t>Слабой информированностью учителей начальной школы об истинных причинах специфических проблем детей с СДВГ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cc66"/>
                </a:solidFill>
                <a:latin typeface="Times New Roman"/>
              </a:rPr>
              <a:t>Полной не информированностью учителей в содержании и основных методах педагогического сопровождения детей с СДВГ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cc00"/>
                </a:solidFill>
                <a:latin typeface="Times New Roman"/>
              </a:rPr>
              <a:t>Так 96% учителей рассматривают  специфические нарушения у таких детей как проявления психоневрологического заболевания, которое необходимо лечить, т.е. перекладывают решение по сути психолого-педагогической проблемы на органы здравоохранения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ffcc00"/>
                </a:solidFill>
                <a:latin typeface="Times New Roman"/>
              </a:rPr>
              <a:t>4% учителей рассматривают в качестве основной причины поведенческих нарушений у детей с СДВГ неблагополучную обстановку в семье, т.е. социальную запущенность, невоспитанность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08032-3D65-4F48-9CAA-7B7DE83FDC64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310C0-8522-457B-9591-144B88ED94B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2560" y="-360"/>
            <a:ext cx="80805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imes New Roman"/>
              </a:rPr>
              <a:t>Импульсивность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228600" y="609120"/>
            <a:ext cx="8610480" cy="5867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imes New Roman"/>
              </a:rPr>
              <a:t>Неряшливост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imes New Roman"/>
              </a:rPr>
              <a:t>Шумные выходки во время уроков(может без разрешения встать и уйти из класса, выкрикнуть что-то с места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imes New Roman"/>
              </a:rPr>
              <a:t>Нетерпеливость(никогда не могут дождаться своей очереди, часто влезают в работу и разговор других детей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imes New Roman"/>
              </a:rPr>
              <a:t>Эмоциональная лабильность(частая смена настроения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imes New Roman"/>
              </a:rPr>
              <a:t>Не способен остановиться и подумать, прежде чем заговорить или совершить действие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imes New Roman"/>
              </a:rPr>
              <a:t>Отвечает на вопросы, не задумываясь, не дослушав вопро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imes New Roman"/>
              </a:rPr>
              <a:t>Мешает другим детям, взрослым, пристаёт, влезает в игры, разговор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imes New Roman"/>
              </a:rPr>
              <a:t>Совершает опасные для себя и окружающих действия, но при этом не ищет острых ощущений или приключен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imes New Roman"/>
              </a:rPr>
              <a:t>Часто вступает в драки, но не по причине агрессивности, а из-за неумения регулировать свои эмоции, не умения проигрывать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C8F03-A1F8-4310-AC51-EDEAF46747B7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C0DF8-3193-4F74-B376-0613B1FAB56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2560" y="152280"/>
            <a:ext cx="808056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Arial"/>
              </a:rPr>
              <a:t>Алгоритм сопровождения детей с СДВГ в образовательном учреждении</a:t>
            </a:r>
            <a:br>
              <a:rPr sz="3200"/>
            </a:b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20" name=""/>
          <p:cNvSpPr txBox="1"/>
          <p:nvPr/>
        </p:nvSpPr>
        <p:spPr>
          <a:xfrm>
            <a:off x="304920" y="152352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Второй шаг. </a:t>
            </a: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После предположения наличия у ребенка синдрома ДВГ необходимо получить его врачебное и нейропсихологическое подтверждение (направить в ЦПМСС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Третий шаг. </a:t>
            </a: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В зависимости от определения варианта СДВГ и уровня его тяжести, а также наличие у конкретного ребенка иных проблем, отягощающих течение синдрома, организовать совместно с родителями и администрацией учебного учреждения обсуждение выбора режима дальнейшего обучения</a:t>
            </a: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AD333-6D62-4CD6-9409-2AC477B85B80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Номер слайда 4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0BCF1-2EFE-452D-9899-F52E2D5852D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8080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Arial"/>
              </a:rPr>
              <a:t>Словесная формула</a:t>
            </a:r>
            <a:br>
              <a:rPr sz="3200"/>
            </a:b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152280" y="685440"/>
            <a:ext cx="8763120" cy="61722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66"/>
                </a:solidFill>
                <a:latin typeface="Times New Roman"/>
              </a:rPr>
              <a:t>« Уважаемые родители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cc66"/>
                </a:solidFill>
                <a:latin typeface="Times New Roman"/>
              </a:rPr>
              <a:t>Наша школа на протяжении целого ряда лет успешно сотрудничает со специалистами ЦМСС, владеющими современными средствами диагностики и методиками эффективного сопровождения развития в ребёнке произвольного внимания и способностей к саморегуляции своего поведения. Это служит фундаментом успешного обучения в современной школе и социальной компетентности в будущем.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cc66"/>
                </a:solidFill>
                <a:latin typeface="Times New Roman"/>
              </a:rPr>
              <a:t>Поэтому мы предлагаем Вам как можно раньше (в ближайшие две недели) обратиться в Центр с целью уточнения психологических и психофизиологических особенностей Вашего ребёнка. Специалисты Центра также помогут Вам уточнить степень утомляемости Вашего ребёнка  предложат оптимальный режим труда и отдыха, необходимый для успешного обучения и развития Вашего ребёнка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cc66"/>
                </a:solidFill>
                <a:latin typeface="Times New Roman"/>
              </a:rPr>
              <a:t>ЦПМСС  Государственное образовательное учреждение и все  улуги оказывает бесплатно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cc66"/>
                </a:solidFill>
                <a:latin typeface="Times New Roman"/>
              </a:rPr>
              <a:t>Предварительная запись по телефону 8-499-738-50-20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cc66"/>
                </a:solidFill>
                <a:latin typeface="Times New Roman"/>
              </a:rPr>
              <a:t>Для эффективной работы с Вашим ребёнком необходимо взять из школы заключение школьного психолого-педагогического консилиума, а после обследования принести заключение Центра в школу.»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3F3A7-2853-4BAC-8FD4-B17652912478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26C7E-D518-4E7D-AE0C-42612434038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80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imes New Roman"/>
              </a:rPr>
              <a:t>Зависимость содержания маршрутов сопровождения от тяжести СДВГ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728" name=""/>
          <p:cNvGraphicFramePr/>
          <p:nvPr/>
        </p:nvGraphicFramePr>
        <p:xfrm>
          <a:off x="304920" y="1447920"/>
          <a:ext cx="8534160" cy="4991040"/>
        </p:xfrm>
        <a:graphic>
          <a:graphicData uri="http://schemas.openxmlformats.org/drawingml/2006/table">
            <a:tbl>
              <a:tblPr/>
              <a:tblGrid>
                <a:gridCol w="1422360"/>
                <a:gridCol w="1422360"/>
                <a:gridCol w="1422360"/>
                <a:gridCol w="1422360"/>
                <a:gridCol w="1422360"/>
                <a:gridCol w="1422360"/>
              </a:tblGrid>
              <a:tr h="7520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Церебрастенический вариан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Дизонтогенетический вариан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1 степен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2 степен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3 степен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1 степен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2 степен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3 степен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6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Обучаемы в массовой школе + программа  «Золотой Ключик» ,«Мудрые родители» в Центр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Обучаемы в массовой школе, но с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дифф-ным лечебно-охр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Режимом 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программа  «ЗК», «Мудрые родители»в Центр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Надомное обучение по программ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массовой школы + занятия в Центре по программе «Мудрые родители» + Мед. помощь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Обучаемы в массовой школе + программы  «Золотой Ключик», «Мудрые родители» в Центр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Обучаемы в массовой школе + дополни-тельные режимные мероприя-тия 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Программа «ЗК»  «Мудрые родители» в Центр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Надомное обучение по программ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массовой школы + занятия в Центре по программе «Мудрые родители» + Мед. помощь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9" name="Дата 4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9FFEE-AEF9-48D8-B942-96FD7E610746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Номер слайда 6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88DE5-8318-4482-8CD3-ECCC47426AD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2560" y="-360"/>
            <a:ext cx="80805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66"/>
                </a:solidFill>
                <a:latin typeface="Times New Roman"/>
              </a:rPr>
              <a:t>Зависимость содержания маршрутов сопровождения от тяжести  состояния, опосредованного сочетанием СДВГ и проблем интеллектуального развития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2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98F3C-BF1E-4F4E-A832-D11E107216EF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E2721-0F2B-4E0C-8A4D-0EBA61C664A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34" name=""/>
          <p:cNvGraphicFramePr/>
          <p:nvPr/>
        </p:nvGraphicFramePr>
        <p:xfrm>
          <a:off x="380880" y="1905120"/>
          <a:ext cx="7925040" cy="5111640"/>
        </p:xfrm>
        <a:graphic>
          <a:graphicData uri="http://schemas.openxmlformats.org/drawingml/2006/table">
            <a:tbl>
              <a:tblPr/>
              <a:tblGrid>
                <a:gridCol w="1320840"/>
                <a:gridCol w="1320840"/>
                <a:gridCol w="1320840"/>
                <a:gridCol w="1320840"/>
                <a:gridCol w="1320840"/>
                <a:gridCol w="1320840"/>
              </a:tblGrid>
              <a:tr h="7520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Церебрастенический вариан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Дизонтогенетический вариан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1 степен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2 степен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3 степен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1 степен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2 степен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3 степен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Обучение в классе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КР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Обучение в спец. Школ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(№1853) 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занятия в Центре по программе «Мудрые родители» + Мед. помощь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Надомное обучение по программе КРО+ занятия в Центре по программе «Мудрые родители» + Мед. помощь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Обучение в спец. Школ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(№1853) 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занятия в Центре по программе «Мудрые родители» + Мед. помощь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Надомное обучение по программе КРО+ занятия в Центре по программе «Мудрые родители» + Мед. помощь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Надомное обучение по программе КРО+ занятия в Центре по программе «Мудрые родители» + Мед. помощь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66"/>
                </a:solidFill>
                <a:latin typeface="Times New Roman"/>
              </a:rPr>
              <a:t>Зависимость содержания маршрутов сопровождения от тяжести  состояния, опосредованного сочетанием СДВГ и проблем регуляции эмоциональности (аффективности)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6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76A6A-EE59-43D5-8CEC-FEEE50E79EFD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E12E5-E12B-4D04-A69E-650C8D9C1D2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38" name=""/>
          <p:cNvGraphicFramePr/>
          <p:nvPr/>
        </p:nvGraphicFramePr>
        <p:xfrm>
          <a:off x="533520" y="2133720"/>
          <a:ext cx="8076960" cy="4572000"/>
        </p:xfrm>
        <a:graphic>
          <a:graphicData uri="http://schemas.openxmlformats.org/drawingml/2006/table">
            <a:tbl>
              <a:tblPr/>
              <a:tblGrid>
                <a:gridCol w="1346040"/>
                <a:gridCol w="1346400"/>
                <a:gridCol w="1346040"/>
                <a:gridCol w="1346040"/>
                <a:gridCol w="1346400"/>
                <a:gridCol w="1346040"/>
              </a:tblGrid>
              <a:tr h="8283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Церебрастенический вариан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Дизонтогенетический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вариан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1 степен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2 степен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3 степен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1 степен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2 степен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3 степен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1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Обучаемы в массовой школе +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Поведенчес-кий тренинг у школьного психолог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Факульта-тивно индивидуа-льное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Посещение школы + Мед. Помощь занятия в Центре в «Школе родител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Надомное обучение по программ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массовой школы + Мед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Помощь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+ занятия с психотера-певтом (клиничес-ким психологом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Обучаемы в массовой школе +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Поведенчес-кий тренинг у школьного психолог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Факульта-тивно индивидуа-льное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Посещение школы + Мед. Помощь занятия в Центре в «Школе родител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Надомное обучение по программ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массовой школы + Мед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Помощь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+ занятия с психотера-певтом (клиничес-ким психолого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Text Box 4"/>
          <p:cNvSpPr/>
          <p:nvPr/>
        </p:nvSpPr>
        <p:spPr>
          <a:xfrm>
            <a:off x="214200" y="1214280"/>
            <a:ext cx="8750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правлена на поэтапное формирование ключевых стратегий саморегуляции деятельности: целеполагания, моделировния, планирования и самоконтроля. Продолжительность  программы – 1,5 месяца. Общая численность групп - 40 детей (со второй степенью тяжести СДВГ). Она позволяет за 1 учебный год оказать помощь 240 человек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TextBox 2"/>
          <p:cNvSpPr/>
          <p:nvPr/>
        </p:nvSpPr>
        <p:spPr>
          <a:xfrm>
            <a:off x="214200" y="142920"/>
            <a:ext cx="864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1. Психолого-педагогическая программа 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трениг «Золотой ключик»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41" name="Picture 6" descr=""/>
          <p:cNvPicPr/>
          <p:nvPr/>
        </p:nvPicPr>
        <p:blipFill>
          <a:blip r:embed="rId1"/>
          <a:stretch/>
        </p:blipFill>
        <p:spPr>
          <a:xfrm>
            <a:off x="285840" y="3857760"/>
            <a:ext cx="3349440" cy="276228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  <p:pic>
        <p:nvPicPr>
          <p:cNvPr id="742" name="Picture 7" descr="IMG_0741"/>
          <p:cNvPicPr/>
          <p:nvPr/>
        </p:nvPicPr>
        <p:blipFill>
          <a:blip r:embed="rId2"/>
          <a:stretch/>
        </p:blipFill>
        <p:spPr>
          <a:xfrm>
            <a:off x="3429000" y="4286160"/>
            <a:ext cx="3251160" cy="243864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743" name="Picture 8" descr="IMG_0761"/>
          <p:cNvPicPr/>
          <p:nvPr/>
        </p:nvPicPr>
        <p:blipFill>
          <a:blip r:embed="rId3"/>
          <a:stretch/>
        </p:blipFill>
        <p:spPr>
          <a:xfrm>
            <a:off x="5857920" y="3643200"/>
            <a:ext cx="3155760" cy="236700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TextBox 1"/>
          <p:cNvSpPr/>
          <p:nvPr/>
        </p:nvSpPr>
        <p:spPr>
          <a:xfrm>
            <a:off x="4286160" y="500040"/>
            <a:ext cx="4714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2. Программа «Мудрые родители»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- психолого-педагогический тренинг родителей, воспитывающих детей с СДВГ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45" name="Рисунок 2" descr="родитель.jpg"/>
          <p:cNvPicPr/>
          <p:nvPr/>
        </p:nvPicPr>
        <p:blipFill>
          <a:blip r:embed="rId1"/>
          <a:stretch/>
        </p:blipFill>
        <p:spPr>
          <a:xfrm>
            <a:off x="214200" y="428760"/>
            <a:ext cx="3875040" cy="585792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746" name="Рисунок 3" descr="семья.jpg"/>
          <p:cNvPicPr/>
          <p:nvPr/>
        </p:nvPicPr>
        <p:blipFill>
          <a:blip r:embed="rId2"/>
          <a:stretch/>
        </p:blipFill>
        <p:spPr>
          <a:xfrm>
            <a:off x="4429080" y="3429000"/>
            <a:ext cx="4351320" cy="287172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TextBox 3"/>
          <p:cNvSpPr/>
          <p:nvPr/>
        </p:nvSpPr>
        <p:spPr>
          <a:xfrm>
            <a:off x="0" y="142920"/>
            <a:ext cx="8715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3.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Программа психолого-педагогического тренинга «Оптимист» для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воспитателей детских садов округа, а также педагогов начальной школы, воспитывающих и обучающих таких дете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48" name="Рисунок 5" descr="IMG_0732.jpg"/>
          <p:cNvPicPr/>
          <p:nvPr/>
        </p:nvPicPr>
        <p:blipFill>
          <a:blip r:embed="rId1"/>
          <a:stretch/>
        </p:blipFill>
        <p:spPr>
          <a:xfrm>
            <a:off x="2857680" y="2000160"/>
            <a:ext cx="5727600" cy="429588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  <p:pic>
        <p:nvPicPr>
          <p:cNvPr id="749" name="Рисунок 4" descr="000100_971645.jpg"/>
          <p:cNvPicPr/>
          <p:nvPr/>
        </p:nvPicPr>
        <p:blipFill>
          <a:blip r:embed="rId2"/>
          <a:stretch/>
        </p:blipFill>
        <p:spPr>
          <a:xfrm>
            <a:off x="285840" y="4143240"/>
            <a:ext cx="3406680" cy="240984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Text Box 4"/>
          <p:cNvSpPr/>
          <p:nvPr/>
        </p:nvSpPr>
        <p:spPr>
          <a:xfrm>
            <a:off x="3429000" y="1523880"/>
            <a:ext cx="5715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цесс сопровождения завершается лишь тогда, когда достигаются устойчивые показатели качественного изменения ситуации по следующим параметрам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TextBox 4"/>
          <p:cNvSpPr/>
          <p:nvPr/>
        </p:nvSpPr>
        <p:spPr>
          <a:xfrm>
            <a:off x="3357720" y="152280"/>
            <a:ext cx="57862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00"/>
                </a:solidFill>
                <a:latin typeface="Arial Black"/>
              </a:rPr>
              <a:t>   </a:t>
            </a:r>
            <a:r>
              <a:rPr b="1" lang="ru-RU" sz="2100" spc="-1" strike="noStrike">
                <a:solidFill>
                  <a:srgbClr val="ffff00"/>
                </a:solidFill>
                <a:latin typeface="Arial"/>
              </a:rPr>
              <a:t>Качественные показатели эффективности        работы окружной системы    сопровождения детей с СДВГ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2" name="Рисунок 1" descr=""/>
          <p:cNvPicPr/>
          <p:nvPr/>
        </p:nvPicPr>
        <p:blipFill>
          <a:blip r:embed="rId1"/>
          <a:stretch/>
        </p:blipFill>
        <p:spPr>
          <a:xfrm>
            <a:off x="149400" y="142920"/>
            <a:ext cx="3195360" cy="304308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sp>
        <p:nvSpPr>
          <p:cNvPr id="753" name="Text Box 4"/>
          <p:cNvSpPr/>
          <p:nvPr/>
        </p:nvSpPr>
        <p:spPr>
          <a:xfrm>
            <a:off x="0" y="3286080"/>
            <a:ext cx="914400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ребенок из позиции играющего в школу переходит в «позицию учащегося: становится эффективным участником образовательной деятельности, т.е. овладевает основными учебными компетентностями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родители ребенка способны самостоятельно выстраивать систему   сопровождения психолого-педагогической  развития своего ребенка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воспитатели ДОУ и педагоги начальной школы владеют приемами ранней диагностики   СДВГ и методами их коррекции. В процессе занятий (труд, ИЗО, «Окружающий мир» и др.) активно используют элементы, стимулирующие закрепление в детях ключевых стратегий саморегуляции деятельности, которые они получили,  обучаясь по программе «Золотой ключик» и дома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Text Box 4"/>
          <p:cNvSpPr/>
          <p:nvPr/>
        </p:nvSpPr>
        <p:spPr>
          <a:xfrm>
            <a:off x="447840" y="276120"/>
            <a:ext cx="815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Rectangle 5"/>
          <p:cNvSpPr/>
          <p:nvPr/>
        </p:nvSpPr>
        <p:spPr>
          <a:xfrm>
            <a:off x="15840" y="341640"/>
            <a:ext cx="912816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4928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cc00"/>
                </a:solidFill>
                <a:latin typeface="Arial"/>
              </a:rPr>
              <a:t>функциональная незрелость современных детей дошкольного и младшего школьного возраста  или  минимальная мозговая дисфункция – этиологическое основание СДВГ, регистрируется в среднем  у  20% городских детей 6 – 9 лет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44928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cc00"/>
                </a:solidFill>
                <a:latin typeface="Arial"/>
              </a:rPr>
              <a:t>учеба в школе требует от ребенка, начиная с 6,5 летнего возраста, </a:t>
            </a:r>
            <a:r>
              <a:rPr b="0" i="1" lang="ru-RU" sz="2200" spc="-1" strike="noStrike">
                <a:solidFill>
                  <a:srgbClr val="ffcc00"/>
                </a:solidFill>
                <a:latin typeface="Arial"/>
              </a:rPr>
              <a:t>необходимости</a:t>
            </a:r>
            <a:r>
              <a:rPr b="0" lang="ru-RU" sz="2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i="1" lang="ru-RU" sz="2200" spc="-1" strike="noStrike">
                <a:solidFill>
                  <a:srgbClr val="ffcc00"/>
                </a:solidFill>
                <a:latin typeface="Arial"/>
              </a:rPr>
              <a:t>поддержания произвольного внимания не менее 4 - 5 часов в сутки в течение</a:t>
            </a:r>
            <a:r>
              <a:rPr b="0" lang="ru-RU" sz="2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i="1" lang="ru-RU" sz="2200" spc="-1" strike="noStrike">
                <a:solidFill>
                  <a:srgbClr val="ffcc00"/>
                </a:solidFill>
                <a:latin typeface="Arial"/>
              </a:rPr>
              <a:t>восьми месяцев в году.</a:t>
            </a:r>
            <a:r>
              <a:rPr b="0" lang="ru-RU" sz="2200" spc="-1" strike="noStrike">
                <a:solidFill>
                  <a:srgbClr val="ffcc00"/>
                </a:solidFill>
                <a:latin typeface="Arial"/>
              </a:rPr>
              <a:t>  Причем это требование </a:t>
            </a:r>
            <a:r>
              <a:rPr b="0" i="1" lang="ru-RU" sz="22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0" lang="ru-RU" sz="2200" spc="-1" strike="noStrike">
                <a:solidFill>
                  <a:srgbClr val="ffcc00"/>
                </a:solidFill>
                <a:latin typeface="Arial"/>
              </a:rPr>
              <a:t>должно соблюдаться обязательно. Для ребенка с СДВГ эта деятельность   практически невыполнима. 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5" name="Рисунок 3" descr="нагрузка.jpg"/>
          <p:cNvPicPr/>
          <p:nvPr/>
        </p:nvPicPr>
        <p:blipFill>
          <a:blip r:embed="rId1"/>
          <a:stretch/>
        </p:blipFill>
        <p:spPr>
          <a:xfrm>
            <a:off x="357120" y="3929040"/>
            <a:ext cx="4087800" cy="271476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  <p:pic>
        <p:nvPicPr>
          <p:cNvPr id="636" name="Рисунок 4" descr="сон.jpg"/>
          <p:cNvPicPr/>
          <p:nvPr/>
        </p:nvPicPr>
        <p:blipFill>
          <a:blip r:embed="rId2"/>
          <a:stretch/>
        </p:blipFill>
        <p:spPr>
          <a:xfrm>
            <a:off x="5072040" y="3929040"/>
            <a:ext cx="3673440" cy="275580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8020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55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B3B27-F9AA-4B2B-A868-265B93D87D2A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9F06F-8E4A-4D24-A8B4-8B0C9BE31F2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7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Text Box 5"/>
          <p:cNvSpPr/>
          <p:nvPr/>
        </p:nvSpPr>
        <p:spPr>
          <a:xfrm>
            <a:off x="2700360" y="1143000"/>
            <a:ext cx="644364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ff00"/>
                </a:solidFill>
                <a:latin typeface="Arial"/>
              </a:rPr>
              <a:t>как медицинская проблема -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риск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формирования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социального инфантилизма  и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психопатоподобного развития личност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ff00"/>
                </a:solidFill>
                <a:latin typeface="Arial"/>
              </a:rPr>
              <a:t>как педагогическая проблема -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н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сформированности позиции ученика, умения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учитьс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ff00"/>
                </a:solidFill>
                <a:latin typeface="Arial"/>
              </a:rPr>
              <a:t>как психологическая проблема -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проблема</a:t>
            </a:r>
            <a:r>
              <a:rPr b="0" i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самоосознания и формирования навыков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саморегуляции деятельност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ff00"/>
                </a:solidFill>
                <a:latin typeface="Arial"/>
              </a:rPr>
              <a:t>как  социальна проблема -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проблема</a:t>
            </a:r>
            <a:r>
              <a:rPr b="0" i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семейного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воспитания и функционирования семьи, как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института воспитания личност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TextBox 2"/>
          <p:cNvSpPr/>
          <p:nvPr/>
        </p:nvSpPr>
        <p:spPr>
          <a:xfrm>
            <a:off x="228600" y="228600"/>
            <a:ext cx="857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индром ДВГ - как полидисциплинарная проблем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9" name="Picture 5" descr=""/>
          <p:cNvPicPr/>
          <p:nvPr/>
        </p:nvPicPr>
        <p:blipFill>
          <a:blip r:embed="rId1"/>
          <a:stretch/>
        </p:blipFill>
        <p:spPr>
          <a:xfrm>
            <a:off x="0" y="1785960"/>
            <a:ext cx="262728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2560" y="0"/>
            <a:ext cx="80805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66"/>
                </a:solidFill>
                <a:latin typeface="Times New Roman"/>
              </a:rPr>
              <a:t>Церебрастенический вариант СДВГ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68256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Times New Roman"/>
              </a:rPr>
              <a:t>Обусловлен физиологической незрелостью головного мозга, проявляющейся быстрой пресыщаемостью произвольной деятельностью и повышенной утомляемостью но внешне это проявляется нарастающей неконтролируемой двигательной активностью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179AC-F66C-425C-9B28-B349303091FE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D9252-5DA3-4F72-AA66-2BD07018D28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08056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66"/>
                </a:solidFill>
                <a:latin typeface="Times New Roman"/>
              </a:rPr>
              <a:t>Обобщённые характеристики учащегося с первым (церебрастеническим) вариантом СДВГ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0" y="1294920"/>
            <a:ext cx="9067680" cy="49532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89000"/>
          </a:bodyPr>
          <a:p>
            <a:pPr marL="305280" indent="-30528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66"/>
                </a:solidFill>
                <a:latin typeface="Times New Roman"/>
              </a:rPr>
              <a:t>Первая степень тяжести(60-75%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66"/>
                </a:solidFill>
                <a:latin typeface="Times New Roman"/>
              </a:rPr>
              <a:t>По критерию развитости произвольной саморегуляции деятельност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cc66"/>
                </a:solidFill>
                <a:uFillTx/>
                <a:latin typeface="Times New Roman"/>
              </a:rPr>
              <a:t>Цель (задачу)</a:t>
            </a:r>
            <a:r>
              <a:rPr b="1" lang="ru-RU" sz="2000" spc="-1" strike="noStrike">
                <a:solidFill>
                  <a:srgbClr val="ffcc66"/>
                </a:solidFill>
                <a:latin typeface="Times New Roman"/>
              </a:rPr>
              <a:t> могут принять и удерживать в полном объёме, но из-за социально-эмоциональной незрелости, преобладания игровой мотивации принимают её со второго-третьего раза и не всегда удерживают до конца выполнения задан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cc66"/>
                </a:solidFill>
                <a:uFillTx/>
                <a:latin typeface="Times New Roman"/>
              </a:rPr>
              <a:t>Моделируя </a:t>
            </a:r>
            <a:r>
              <a:rPr b="1" lang="ru-RU" sz="2000" spc="-1" strike="noStrike">
                <a:solidFill>
                  <a:srgbClr val="ffcc66"/>
                </a:solidFill>
                <a:latin typeface="Times New Roman"/>
              </a:rPr>
              <a:t>с условиями задачи, часто отражают второстепенные признаки особенно при работе со знаково-числовым материалом. В вербальном и наглядно-графическом материале могут выделить значимые признаки , но при условии эмоциональной поддержки и наведении на способ со стороны учителя. При высоком уровне осознания всего,что делают, такие дети легко и быстро принимают любые виды помощ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cc66"/>
                </a:solidFill>
                <a:uFillTx/>
                <a:latin typeface="Times New Roman"/>
              </a:rPr>
              <a:t>Планирование </a:t>
            </a:r>
            <a:r>
              <a:rPr b="1" lang="ru-RU" sz="2000" spc="-1" strike="noStrike">
                <a:solidFill>
                  <a:srgbClr val="ffcc66"/>
                </a:solidFill>
                <a:latin typeface="Times New Roman"/>
              </a:rPr>
              <a:t>работы осуществляет по ходу выполнения задания. Очень часто приступают к выполнению задания, не дослушав инструкцию до конца, вопросы задают уже по ходу выполнения. Эффективность выполнения работы не велик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cc66"/>
                </a:solidFill>
                <a:uFillTx/>
                <a:latin typeface="Times New Roman"/>
              </a:rPr>
              <a:t>Самоконтроль  </a:t>
            </a:r>
            <a:r>
              <a:rPr b="1" lang="ru-RU" sz="2000" spc="-1" strike="noStrike">
                <a:solidFill>
                  <a:srgbClr val="ffcc66"/>
                </a:solidFill>
                <a:latin typeface="Times New Roman"/>
              </a:rPr>
              <a:t>сформирован неплохо особенно при работе с наглядным материалом (контролируется и операционное действие и результат). При работе с материалом (особенно математическим) в умственном плане- контроль слабый. В лучшем случае контролируется только результат. Но замеченные и понимаемые ошибки исправляются всегд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66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E402C-80FF-4B59-ABF7-1488D5D68CBE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5E194-B0FF-4476-829E-930B744E60A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Times New Roman"/>
              </a:rPr>
              <a:t>По критерию развитости социально-эмоциональной зрелости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68580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imes New Roman"/>
              </a:rPr>
              <a:t>Обязательно регистрируется различная степень выраженности эмоциональной незрелости, редко достигая состояния инфантильност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imes New Roman"/>
              </a:rPr>
              <a:t>Недостаточно сформирована «позиция школьника»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: </a:t>
            </a:r>
            <a:r>
              <a:rPr b="1" lang="ru-RU" sz="3200" spc="-1" strike="noStrike">
                <a:solidFill>
                  <a:srgbClr val="ffcc66"/>
                </a:solidFill>
                <a:latin typeface="Times New Roman"/>
              </a:rPr>
              <a:t>преобладает игровая мотивация по типу предметно-манипуляционного общения. Хотя общие познавательные интересы могут быть широкие, собственно учебная мотивация слабая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91225-D196-408C-8501-E1618CC96BF3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64D10-2A4F-4EBF-8FFC-61B55169BEA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66"/>
                </a:solidFill>
                <a:latin typeface="Times New Roman"/>
              </a:rPr>
              <a:t>По выраженности явлений церебрастении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68256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imes New Roman"/>
              </a:rPr>
              <a:t>Первы два месяца могут призводить впечатление достаточно успешных, за счёт не плохого актуального развития. Симптомы утомляемости становятся заметными к концу второй – началу третьей четверти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: </a:t>
            </a:r>
            <a:r>
              <a:rPr b="0" lang="ru-RU" sz="2400" spc="-1" strike="noStrike">
                <a:solidFill>
                  <a:srgbClr val="ffcc66"/>
                </a:solidFill>
                <a:latin typeface="Times New Roman"/>
              </a:rPr>
              <a:t>у ребёнка появляются разнообразные соматические жалобы. Родителей и учителей беспокоит необъяснимо повышенная сонливость, перепады настроения. Как правило к четвёртому часу пребывания в школе нарастают явления нарушения произвольного внимания и гиперактивности (прежде всего суетливость и отвлекаемость). Резко снижается познавательный, но особенно учебный интерес. Внешне это может проявляться в утрате учебных навыков (чтения и письса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A21B6-5D49-45E8-B12F-9D7E966E7275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811BF-A7E1-413B-93B5-3CE5258FD01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80802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66"/>
                </a:solidFill>
                <a:latin typeface="Times New Roman"/>
              </a:rPr>
              <a:t>Дизонтогенетический вариант СДВГ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22860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Times New Roman"/>
              </a:rPr>
              <a:t>Преимущественно обусловленный нарушениями нейромедиаторного обеспечения работы коры головного мозга, и как следствие этого, избыточной (но компенсаторной по сути) стволовой его активацией, что внешне проявляется в виде «двигательной неутомимости- думать некогда-надо действовать»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C4399-E6FE-495C-BB69-335B1BA4D290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BE1B2-F56F-4DCB-A622-1CD0AB3F5E9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Центр</cp:lastModifiedBy>
  <dcterms:modified xsi:type="dcterms:W3CDTF">2010-09-07T09:19:58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