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544050" cy="74771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CC536-A001-46A6-9740-053D84661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FCB18-2850-489C-8B21-AD040878B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8"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9"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B2E469-7184-4380-9A6C-AF638AE17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0181E-BABA-4737-B4EF-360B09B783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EBCABF-FF06-4E35-A098-53BF9C1517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3"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44"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45"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8EF84-CA31-450A-AC4E-ACCC1F993E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7"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48"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49"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43F2E1-0206-4692-8DD7-CF22D682A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1"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2"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3"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86DD59-046C-49D5-9400-B896A1AF50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5"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6"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531F84-3631-43EB-884E-0AC4161B73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8"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9"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0"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1"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53D6BB-10D6-438C-9071-3C349F94B4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3"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4"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5"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6"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7"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8"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356BDD-1204-4DAB-84E6-B4FF873658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E095AD-9009-4F3B-89BA-23427E1043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36974-4BF8-4CE0-89BE-717B6C23D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5"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E6E746-E138-4B36-B67C-75300D757E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7"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6860DD-476E-4C14-A30A-10E1BECE64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9"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0"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94F327-B1F1-4CD2-BA33-85B5089DEF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916DBF-7AB6-42D3-B312-CC8809EC25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5CC047-6AD7-482E-8E9F-1786D7F2DC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4"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5"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6"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53D421-1987-458A-87D4-BBA40C5554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9"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0"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38C30D-7F62-4667-BAE4-95F73C7E38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2"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3"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4"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3493A8-3F2E-4F6F-B45C-6FD3123752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6"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7"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248DC3-F1FC-4AF7-8689-C762A218C6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0"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1"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2"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6A6431-24D0-4D87-BC2B-6CB90B27E6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349EA-50A6-4EBC-8D65-DE853C9E4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4"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5"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6"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7"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8"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9"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DBC150-6502-467E-B199-C15B4054A7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B5C471-4753-434F-82ED-3DE8109286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6"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1FF8E3-FCE0-4141-A0FA-E64E5B6E11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8"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B0D15A-77BF-4051-BD27-3678DC99CF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0"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1"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7245EF-03C9-49DC-9989-BF1D3EBBF5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632DB1-651F-4A13-9F63-6263B5E1AF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12EB5B-8B0A-4DFF-815F-602C4F0302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5"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6"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7"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AD63DF-8E0D-401F-B0FD-1389E3C9AC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9"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0"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1"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241975-C7C7-4B64-8D94-CF7B507BD1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3"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4"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5"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4366C2-EC38-419A-A892-491005E336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60D2F-F800-488E-B7E2-D7ADAC5D1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8"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17F215-9A3E-4C67-99A3-BD20149C90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0"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1"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2"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3"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7E949E-1F3E-40A6-92DB-BC1EDC200D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6"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7"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8"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9"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0"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36E0A6-C905-484A-9995-98A685A698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C861CE-B5E7-432F-89C8-FD76D5AE86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983E98-3CA2-4CEF-8C91-F828B66F7E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9"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B94FCC-E647-4B4F-A6F6-F9C7C28F67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61"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2"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F674A5-E400-450C-9CC4-F1844EF629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918E55-6BE0-4E81-B0C5-E75477F3F0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E76FBD-9493-4F0E-B95B-B07919B600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66"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7"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8"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3A7C44-3AA7-41ED-8896-6108E014A9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24358-907A-45F6-8296-8ECE1C070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71"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72"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ACC70D-DF6B-4503-962A-D54D1047F9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75"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76"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DC5D8F-2513-4C12-A1FB-F1E07ED5ED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8"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79"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38EBF1-1F43-4082-A933-3E22C6EE49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1"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82"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83"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84"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C55575-FE78-41CF-B589-91D51C00A6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6"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87"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88"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89"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90"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91"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415B0C-D56D-4212-9C09-DB55379C22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A649E-8C09-4A94-AC1D-B16BF948C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CBBDC-1E13-4FEF-9121-CFE1B9C54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7E6AC-8E47-47EE-A2D7-9C360B0D5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FF089-743A-4849-A216-66B7E0BF3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8"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4E2A2-772A-4A23-B2FD-2B834AF37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D7283-740C-4688-AD2C-96A5137B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0"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2"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2E06C-76BF-4645-BC38-849AC0CED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C84EF-8218-4226-BD21-12F57C31E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C936B-1069-4DA1-B9A7-D8E1B0915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2"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3"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4"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7E783-EF3A-4641-91DE-17D330FB1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7"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8"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9"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0"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1"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56342-86B8-433A-B22C-6FD6128E1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10BD84-2AE1-4730-97C7-59CD0E44D1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8"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8363D-D10D-4857-AD82-78D228A5B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0"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1E41E-DF58-463C-B058-8EAB29E97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3"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6DBC21-9D50-4362-A81B-E34F9F724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05D918-AF92-4EF4-BDEF-5AAFDB5CE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186A8-CD02-4DD0-AB9E-7CDC1B98D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E80EED-439B-43A9-834F-84AE56A4F2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7"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8"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9"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92C34-FC1D-442A-B250-C146F978D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02"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03"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90AA7-0D57-44EE-AB50-C117277B5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06"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07"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3D0D7-5F41-4E44-BB9B-FD729C029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0"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B9B8B-0420-498B-A372-C64EC5D06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2"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3"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4"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5"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7515E9-6F2A-4578-9C85-1D1B114CD4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7"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8"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9"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0"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1"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2"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AF3360-599D-4425-97D3-DF893B095B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43F1EB-7E47-4B06-B71D-7711F4049E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9"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68842-070A-4C58-9983-A27007449A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1"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87267-4EA9-49CA-9B3F-0F3E661EA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F93F3-0429-4F4A-8123-1649C5454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3"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4"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5B8AEB-2E5A-4BBA-97BC-5FA1CF0A10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1C6770-3E43-4BDB-A482-20EADABA7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AA3C6-7B3F-4EC7-B95A-0B137CD14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9"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0"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D6ACC-5784-4460-96AF-073D20D31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2"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3"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4"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01D79-54E8-4878-96E3-0367A5CAB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6"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7"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8"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07CDB-DB73-401F-88B9-B437A1B2F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0"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1"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C28569-237A-4AED-A760-0CA0501552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3"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4"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5"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6"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BF31EB-6EA8-4694-AE03-8CB77F049A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9"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0"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1"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2"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3"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3C16C-30E1-48E5-8CA2-B762A7BD05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0590F3-EBBA-4562-838A-78B235CD6A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48821-3AF7-44D5-8535-EF9762E1C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0"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4964A-180A-4777-A78F-9579204FBA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2"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C3EFE-A823-464E-A244-3D13BCD2C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4"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5"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1399B-E031-41AF-BEB9-D884B6900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DB897-B8F2-431F-8F41-033F8FC59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4024D-5A6E-49B5-8D22-BAA4961FE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9"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0"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1"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ED7A2-DE6F-4FFF-97AF-4268A9F82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3"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4"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5"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C9570-B6A8-4B44-875D-6C37514F4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7"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8"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9"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1CD98-38A0-4710-B0A8-665FF78C0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1"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92"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273C6-6FF0-4F15-B708-56398690C1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4"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95"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96"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97"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60C225-5A78-4654-B92B-E1C0E9A235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746C9-67DC-4F6B-ABF7-F657001B9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9"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0"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1"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2"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3"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4"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849406-A042-4037-93AA-421E037322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F236A3-08B4-4094-B9FE-D5A2B5DEB5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1"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5A35F7-65BA-4E5F-A7E3-06E2913E0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3"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D976E-BB5C-4966-8D9A-5D7E19456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5"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16"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7012B9-E58A-4738-96A6-65DE2C7F66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913282-91CE-475D-B130-C80D9CD761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14A734-C703-4D86-B76C-28FCAE423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1"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2"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3A1CF-8ACE-44FD-8E1F-FA11E13D1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4"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5"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6"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EE9CB-2869-4C7E-AC5F-05C5FC92C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8"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9"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0"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5CEDC-8860-4788-A339-6EC51DC17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0F0E-224D-4309-B2B5-5FD3EECCF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2"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3"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621964-5779-4FB4-B1FD-31C8B880FB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6"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7"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8"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4E5975-B046-4853-B057-BCF5FCF510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0"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1"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2"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3"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4"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5"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178B17-C2AB-423A-8251-1989B49CAE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A675C1-0CEE-4844-ADDF-E17F745C15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2"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E25254-EFD2-4D19-A303-CC66C5B037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4"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71E1CE-C5D1-408F-B3DA-71F852C1D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6"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57"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EAAA12-D9B9-4E3E-821F-60567B138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80184-AEA4-4617-94EE-03AE478EF0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29AC4-3534-49F6-A6D4-842884B80B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1"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2"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3"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85112-D655-48D2-B6A9-206F80B8C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1"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922C-1CCA-4AE6-95AF-00B50C819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5"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6"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7"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6AEA2-49C3-4585-9B0B-DA6E4FA4F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0"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1"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959971-A000-4F15-89BF-7A407BE7D3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4"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8AB325-A131-4BC7-A49D-27088169A6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6"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7"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8"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9"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BAA430-F978-40DB-BE0F-E59364B39D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2"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3"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4"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5"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6"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661B44-4243-4AF9-BD1B-82FADC7811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0B7F92-21A5-480C-B88C-118B8281A2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3"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D0852-9F4F-4025-83FB-6C59799151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5"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85566-51D5-4C56-BBF2-F35C5B6356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7"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98"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02E82B-170F-4F4E-AD54-7CA981B11D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98AB16-3CA2-47D1-9ED4-B052127E0F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5"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29B33-C64C-4EE8-9DD3-13DB818A6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77360" y="299880"/>
            <a:ext cx="8587080" cy="5771880"/>
          </a:xfrm>
          <a:prstGeom prst="rect">
            <a:avLst/>
          </a:prstGeom>
          <a:noFill/>
          <a:ln w="0">
            <a:noFill/>
          </a:ln>
        </p:spPr>
        <p:txBody>
          <a:bodyPr lIns="0" rIns="0" tIns="0" bIns="0" anchor="ctr">
            <a:noAutofit/>
          </a:bodyPr>
          <a:p>
            <a:pPr marL="146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6C53F-B6E2-4D0C-BC7D-7F6DF2B71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03" name="PlaceHolder 3"/>
          <p:cNvSpPr>
            <a:spLocks noGrp="1"/>
          </p:cNvSpPr>
          <p:nvPr>
            <p:ph/>
          </p:nvPr>
        </p:nvSpPr>
        <p:spPr>
          <a:xfrm>
            <a:off x="487764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04"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13600-6BB2-4C96-B1CF-FC2C22D51D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77360" y="1744200"/>
            <a:ext cx="419040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07"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08" name="PlaceHolder 4"/>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1DD12-F2A5-453A-AB14-3668061932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0"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1"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2" name="PlaceHolder 4"/>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82E97-6B19-4A81-A494-2EC17914C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4" name="PlaceHolder 2"/>
          <p:cNvSpPr>
            <a:spLocks noGrp="1"/>
          </p:cNvSpPr>
          <p:nvPr>
            <p:ph/>
          </p:nvPr>
        </p:nvSpPr>
        <p:spPr>
          <a:xfrm>
            <a:off x="477360" y="174420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5" name="PlaceHolder 3"/>
          <p:cNvSpPr>
            <a:spLocks noGrp="1"/>
          </p:cNvSpPr>
          <p:nvPr>
            <p:ph/>
          </p:nvPr>
        </p:nvSpPr>
        <p:spPr>
          <a:xfrm>
            <a:off x="477360" y="4425120"/>
            <a:ext cx="858708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11AA75-0806-432A-A5AA-0E24E5394F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7" name="PlaceHolder 2"/>
          <p:cNvSpPr>
            <a:spLocks noGrp="1"/>
          </p:cNvSpPr>
          <p:nvPr>
            <p:ph/>
          </p:nvPr>
        </p:nvSpPr>
        <p:spPr>
          <a:xfrm>
            <a:off x="47736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8" name="PlaceHolder 3"/>
          <p:cNvSpPr>
            <a:spLocks noGrp="1"/>
          </p:cNvSpPr>
          <p:nvPr>
            <p:ph/>
          </p:nvPr>
        </p:nvSpPr>
        <p:spPr>
          <a:xfrm>
            <a:off x="4877640" y="174420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9" name="PlaceHolder 4"/>
          <p:cNvSpPr>
            <a:spLocks noGrp="1"/>
          </p:cNvSpPr>
          <p:nvPr>
            <p:ph/>
          </p:nvPr>
        </p:nvSpPr>
        <p:spPr>
          <a:xfrm>
            <a:off x="47736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0" name="PlaceHolder 5"/>
          <p:cNvSpPr>
            <a:spLocks noGrp="1"/>
          </p:cNvSpPr>
          <p:nvPr>
            <p:ph/>
          </p:nvPr>
        </p:nvSpPr>
        <p:spPr>
          <a:xfrm>
            <a:off x="4877640" y="4425120"/>
            <a:ext cx="41904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12A733-35EE-422B-AEE0-FCFAF4B949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2" name="PlaceHolder 2"/>
          <p:cNvSpPr>
            <a:spLocks noGrp="1"/>
          </p:cNvSpPr>
          <p:nvPr>
            <p:ph/>
          </p:nvPr>
        </p:nvSpPr>
        <p:spPr>
          <a:xfrm>
            <a:off x="4773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3" name="PlaceHolder 3"/>
          <p:cNvSpPr>
            <a:spLocks noGrp="1"/>
          </p:cNvSpPr>
          <p:nvPr>
            <p:ph/>
          </p:nvPr>
        </p:nvSpPr>
        <p:spPr>
          <a:xfrm>
            <a:off x="33807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4" name="PlaceHolder 4"/>
          <p:cNvSpPr>
            <a:spLocks noGrp="1"/>
          </p:cNvSpPr>
          <p:nvPr>
            <p:ph/>
          </p:nvPr>
        </p:nvSpPr>
        <p:spPr>
          <a:xfrm>
            <a:off x="6284160" y="174420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5" name="PlaceHolder 5"/>
          <p:cNvSpPr>
            <a:spLocks noGrp="1"/>
          </p:cNvSpPr>
          <p:nvPr>
            <p:ph/>
          </p:nvPr>
        </p:nvSpPr>
        <p:spPr>
          <a:xfrm>
            <a:off x="4773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6" name="PlaceHolder 6"/>
          <p:cNvSpPr>
            <a:spLocks noGrp="1"/>
          </p:cNvSpPr>
          <p:nvPr>
            <p:ph/>
          </p:nvPr>
        </p:nvSpPr>
        <p:spPr>
          <a:xfrm>
            <a:off x="33807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7" name="PlaceHolder 7"/>
          <p:cNvSpPr>
            <a:spLocks noGrp="1"/>
          </p:cNvSpPr>
          <p:nvPr>
            <p:ph/>
          </p:nvPr>
        </p:nvSpPr>
        <p:spPr>
          <a:xfrm>
            <a:off x="6284160" y="4425120"/>
            <a:ext cx="2764800" cy="244800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667334-8DF9-41D3-8A18-34A3B0655F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94C427-D705-4250-97A7-81E00AA2AF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4" name="PlaceHolder 2"/>
          <p:cNvSpPr>
            <a:spLocks noGrp="1"/>
          </p:cNvSpPr>
          <p:nvPr>
            <p:ph type="subTitle"/>
          </p:nvPr>
        </p:nvSpPr>
        <p:spPr>
          <a:xfrm>
            <a:off x="477360" y="1744200"/>
            <a:ext cx="8587080" cy="5132520"/>
          </a:xfrm>
          <a:prstGeom prst="rect">
            <a:avLst/>
          </a:prstGeom>
          <a:noFill/>
          <a:ln w="0">
            <a:noFill/>
          </a:ln>
        </p:spPr>
        <p:txBody>
          <a:bodyPr lIns="0" rIns="0" tIns="0" bIns="0" anchor="ctr">
            <a:noAutofit/>
          </a:bodyPr>
          <a:p>
            <a:pPr marL="146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FA0DC5-DD89-40B2-A7F2-829C43DE2E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6" name="PlaceHolder 2"/>
          <p:cNvSpPr>
            <a:spLocks noGrp="1"/>
          </p:cNvSpPr>
          <p:nvPr>
            <p:ph/>
          </p:nvPr>
        </p:nvSpPr>
        <p:spPr>
          <a:xfrm>
            <a:off x="477360" y="1744200"/>
            <a:ext cx="8587080" cy="5132520"/>
          </a:xfrm>
          <a:prstGeom prst="rect">
            <a:avLst/>
          </a:prstGeom>
          <a:noFill/>
          <a:ln w="0">
            <a:noFill/>
          </a:ln>
        </p:spPr>
        <p:txBody>
          <a:bodyPr lIns="97200" rIns="97200" tIns="48600" bIns="486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F1ED32-A3E4-4A44-97D7-2DB5ABA118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 name="PlaceHolder 3"/>
          <p:cNvSpPr>
            <a:spLocks noGrp="1"/>
          </p:cNvSpPr>
          <p:nvPr>
            <p:ph type="dt" idx="1"/>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C54F-7382-4D0F-844C-2C87875907C7}"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70"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371" name="PlaceHolder 3"/>
          <p:cNvSpPr>
            <a:spLocks noGrp="1"/>
          </p:cNvSpPr>
          <p:nvPr>
            <p:ph type="dt" idx="28"/>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E00D-F0C3-42D7-AC4F-6D6EE9E9BBE8}"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11"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412" name="PlaceHolder 3"/>
          <p:cNvSpPr>
            <a:spLocks noGrp="1"/>
          </p:cNvSpPr>
          <p:nvPr>
            <p:ph type="dt" idx="31"/>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C5F9-FD0F-4CCD-BA99-DF5F71398431}"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2"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453" name="PlaceHolder 3"/>
          <p:cNvSpPr>
            <a:spLocks noGrp="1"/>
          </p:cNvSpPr>
          <p:nvPr>
            <p:ph type="dt" idx="34"/>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026A-2B38-41ED-AD7B-E56B797B7DD8}"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43" name="PlaceHolder 3"/>
          <p:cNvSpPr>
            <a:spLocks noGrp="1"/>
          </p:cNvSpPr>
          <p:nvPr>
            <p:ph type="dt" idx="4"/>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C5FF-8E19-42A4-AA91-65E93C97BC29}"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3"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84" name="PlaceHolder 3"/>
          <p:cNvSpPr>
            <a:spLocks noGrp="1"/>
          </p:cNvSpPr>
          <p:nvPr>
            <p:ph type="dt" idx="7"/>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3CC4-B7CA-4520-A0AC-B5A300903330}"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24"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125" name="PlaceHolder 3"/>
          <p:cNvSpPr>
            <a:spLocks noGrp="1"/>
          </p:cNvSpPr>
          <p:nvPr>
            <p:ph type="dt" idx="10"/>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4E00-AF6A-43D2-B52E-615763A936BC}"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65"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166" name="PlaceHolder 3"/>
          <p:cNvSpPr>
            <a:spLocks noGrp="1"/>
          </p:cNvSpPr>
          <p:nvPr>
            <p:ph type="dt" idx="13"/>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3FE8-D6EA-4530-AC42-729ED3780136}"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06"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07" name="PlaceHolder 3"/>
          <p:cNvSpPr>
            <a:spLocks noGrp="1"/>
          </p:cNvSpPr>
          <p:nvPr>
            <p:ph type="dt" idx="16"/>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476B-E48C-4D0C-83B9-1FBA0B1348E8}"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47"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48" name="PlaceHolder 3"/>
          <p:cNvSpPr>
            <a:spLocks noGrp="1"/>
          </p:cNvSpPr>
          <p:nvPr>
            <p:ph type="dt" idx="19"/>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0095-829A-42D9-8C02-11889A14DF3C}"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88"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89" name="PlaceHolder 3"/>
          <p:cNvSpPr>
            <a:spLocks noGrp="1"/>
          </p:cNvSpPr>
          <p:nvPr>
            <p:ph type="dt" idx="22"/>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5876-ACFB-4486-A6DB-DB8BE06E7761}"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77360" y="299880"/>
            <a:ext cx="8587080" cy="1244880"/>
          </a:xfrm>
          <a:prstGeom prst="rect">
            <a:avLst/>
          </a:prstGeom>
          <a:noFill/>
          <a:ln w="0">
            <a:noFill/>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29" name="PlaceHolder 2"/>
          <p:cNvSpPr>
            <a:spLocks noGrp="1"/>
          </p:cNvSpPr>
          <p:nvPr>
            <p:ph type="body"/>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922320" indent="-2998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204920" indent="-243000">
              <a:spcBef>
                <a:spcPts val="751"/>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438200" indent="-193680">
              <a:spcBef>
                <a:spcPts val="751"/>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43040" indent="-1936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330" name="PlaceHolder 3"/>
          <p:cNvSpPr>
            <a:spLocks noGrp="1"/>
          </p:cNvSpPr>
          <p:nvPr>
            <p:ph type="dt" idx="25"/>
          </p:nvPr>
        </p:nvSpPr>
        <p:spPr>
          <a:xfrm>
            <a:off x="477360" y="6994080"/>
            <a:ext cx="222588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260520" y="6994080"/>
            <a:ext cx="3020760" cy="398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8270640" y="6994080"/>
            <a:ext cx="793800" cy="398520"/>
          </a:xfrm>
          <a:prstGeom prst="rect">
            <a:avLst/>
          </a:prstGeom>
          <a:noFill/>
          <a:ln w="0">
            <a:noFill/>
          </a:ln>
        </p:spPr>
        <p:txBody>
          <a:bodyPr lIns="0" rIns="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A809-C48B-4462-921F-3046BB0222DA}" type="slidenum">
              <a:rPr b="0" lang="ru-RU"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82360" y="1362240"/>
            <a:ext cx="7993080" cy="2936880"/>
          </a:xfrm>
          <a:prstGeom prst="rect">
            <a:avLst/>
          </a:prstGeom>
          <a:noFill/>
          <a:ln w="0">
            <a:noFill/>
          </a:ln>
        </p:spPr>
        <p:txBody>
          <a:bodyPr lIns="97200" rIns="97200" tIns="48600" bIns="48600" anchor="t">
            <a:noAutofit/>
          </a:bodyPr>
          <a:p>
            <a:pPr marL="1461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Методические принципы    построения программ педагогического сопровождения детей с СДВГ</a:t>
            </a:r>
            <a:endParaRPr b="0" lang="en-US" sz="4000" spc="-1" strike="noStrike">
              <a:solidFill>
                <a:srgbClr val="ffffff"/>
              </a:solidFill>
              <a:latin typeface="Times New Roman"/>
            </a:endParaRPr>
          </a:p>
          <a:p>
            <a:pPr marL="14616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Заголовок 1" descr=""/>
          <p:cNvPicPr/>
          <p:nvPr/>
        </p:nvPicPr>
        <p:blipFill>
          <a:blip r:embed="rId1"/>
          <a:stretch/>
        </p:blipFill>
        <p:spPr>
          <a:xfrm>
            <a:off x="476280" y="115920"/>
            <a:ext cx="8588520" cy="1427040"/>
          </a:xfrm>
          <a:prstGeom prst="rect">
            <a:avLst/>
          </a:prstGeom>
          <a:ln w="0">
            <a:noFill/>
          </a:ln>
        </p:spPr>
      </p:pic>
      <p:graphicFrame>
        <p:nvGraphicFramePr>
          <p:cNvPr id="513" name=""/>
          <p:cNvGraphicFramePr/>
          <p:nvPr/>
        </p:nvGraphicFramePr>
        <p:xfrm>
          <a:off x="477720" y="1744560"/>
          <a:ext cx="8508960" cy="4494240"/>
        </p:xfrm>
        <a:graphic>
          <a:graphicData uri="http://schemas.openxmlformats.org/drawingml/2006/table">
            <a:tbl>
              <a:tblPr/>
              <a:tblGrid>
                <a:gridCol w="4294440"/>
                <a:gridCol w="4214520"/>
              </a:tblGrid>
              <a:tr h="1255680">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Нет порядка в бумагах.</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Порекомендуйте ему папки с разделам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161928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бывает, что задано на дом.</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усть ученик ведет записную книжку (дневник); следите за записью домашних заданий.</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161928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ряет книг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усть дома у ученика будет дополнительный комплект книг.</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graphicFrame>
        <p:nvGraphicFramePr>
          <p:cNvPr id="514" name=""/>
          <p:cNvGraphicFramePr/>
          <p:nvPr/>
        </p:nvGraphicFramePr>
        <p:xfrm>
          <a:off x="484200" y="1093680"/>
          <a:ext cx="8502480" cy="639720"/>
        </p:xfrm>
        <a:graphic>
          <a:graphicData uri="http://schemas.openxmlformats.org/drawingml/2006/table">
            <a:tbl>
              <a:tblPr/>
              <a:tblGrid>
                <a:gridCol w="4251240"/>
                <a:gridCol w="425124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Поведение ученик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Предлагаемое реше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bl>
          </a:graphicData>
        </a:graphic>
      </p:graphicFrame>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Заголовок 1" descr=""/>
          <p:cNvPicPr/>
          <p:nvPr/>
        </p:nvPicPr>
        <p:blipFill>
          <a:blip r:embed="rId1"/>
          <a:stretch/>
        </p:blipFill>
        <p:spPr>
          <a:xfrm>
            <a:off x="476280" y="115920"/>
            <a:ext cx="8588520" cy="1427040"/>
          </a:xfrm>
          <a:prstGeom prst="rect">
            <a:avLst/>
          </a:prstGeom>
          <a:ln w="0">
            <a:noFill/>
          </a:ln>
        </p:spPr>
      </p:pic>
      <p:graphicFrame>
        <p:nvGraphicFramePr>
          <p:cNvPr id="516" name=""/>
          <p:cNvGraphicFramePr/>
          <p:nvPr/>
        </p:nvGraphicFramePr>
        <p:xfrm>
          <a:off x="477720" y="1744560"/>
          <a:ext cx="8587080" cy="373320"/>
        </p:xfrm>
        <a:graphic>
          <a:graphicData uri="http://schemas.openxmlformats.org/drawingml/2006/table">
            <a:tbl>
              <a:tblPr/>
              <a:tblGrid>
                <a:gridCol w="4294440"/>
                <a:gridCol w="4292640"/>
              </a:tblGrid>
              <a:tr h="373320">
                <a:tc>
                  <a:txBody>
                    <a:bodyPr lIns="28440" rIns="28440" tIns="28440" bIns="28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65d"/>
                          </a:solidFill>
                          <a:latin typeface="Times New Roman"/>
                          <a:ea typeface="Times New Roman"/>
                        </a:rPr>
                        <a:t>Поведение ученика</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28440" rIns="28440" tIns="28440" bIns="28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65d"/>
                          </a:solidFill>
                          <a:latin typeface="Times New Roman"/>
                          <a:ea typeface="Times New Roman"/>
                        </a:rPr>
                        <a:t>Предлагаемое решение</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bl>
          </a:graphicData>
        </a:graphic>
      </p:graphicFrame>
      <p:graphicFrame>
        <p:nvGraphicFramePr>
          <p:cNvPr id="517" name=""/>
          <p:cNvGraphicFramePr/>
          <p:nvPr/>
        </p:nvGraphicFramePr>
        <p:xfrm>
          <a:off x="484200" y="2879640"/>
          <a:ext cx="8574120" cy="3571920"/>
        </p:xfrm>
        <a:graphic>
          <a:graphicData uri="http://schemas.openxmlformats.org/drawingml/2006/table">
            <a:tbl>
              <a:tblPr/>
              <a:tblGrid>
                <a:gridCol w="4286160"/>
                <a:gridCol w="4287960"/>
              </a:tblGrid>
              <a:tr h="1785960">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Должен все время двигатьс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Посылайте его по разным поручениям или позволяйте ему иногда вставать во время работы.</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178596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му трудно сосредоточиться на длительные промежутки времен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лайте короткие перерывы между заданиям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bl>
          </a:graphicData>
        </a:graphic>
      </p:graphicFrame>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Заголовок 1" descr=""/>
          <p:cNvPicPr/>
          <p:nvPr/>
        </p:nvPicPr>
        <p:blipFill>
          <a:blip r:embed="rId1"/>
          <a:stretch/>
        </p:blipFill>
        <p:spPr>
          <a:xfrm>
            <a:off x="476280" y="115920"/>
            <a:ext cx="8588520" cy="1427040"/>
          </a:xfrm>
          <a:prstGeom prst="rect">
            <a:avLst/>
          </a:prstGeom>
          <a:ln w="0">
            <a:noFill/>
          </a:ln>
        </p:spPr>
      </p:pic>
      <p:graphicFrame>
        <p:nvGraphicFramePr>
          <p:cNvPr id="519" name=""/>
          <p:cNvGraphicFramePr/>
          <p:nvPr/>
        </p:nvGraphicFramePr>
        <p:xfrm>
          <a:off x="477720" y="1093680"/>
          <a:ext cx="8587080" cy="6150240"/>
        </p:xfrm>
        <a:graphic>
          <a:graphicData uri="http://schemas.openxmlformats.org/drawingml/2006/table">
            <a:tbl>
              <a:tblPr/>
              <a:tblGrid>
                <a:gridCol w="4294440"/>
                <a:gridCol w="4292640"/>
              </a:tblGrid>
              <a:tr h="1179720">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Не понимает норм социального поведения.</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Поставьте перед учеником цели, связанные с социальным поведением, и применяйте систему вознаграждений по мере достижения этих целей.</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75888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имеет навыков совместной работы с другими.</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ощряйте учебные задания, требующие взаимодействия учеников.</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75708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ученики его не уважают.</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вайте ему особые поручения в присутствии его одноклассников.</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89856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уверенность в себе.</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валите ученика за хорошее поведение и работу; предоставляйте ему возможность играть роль лидера.</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89856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ходится в одиночестве или замкнут в себе.</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ощряйте его взаимодействие с соучениками; планируйте коллективные виды работы под руководством учителя.</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75888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гко отчаивается.</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ще хвалите его за правильное поведение и хорошую работу.</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89856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гко раздражается.</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ощряйте ученика обходить стороной раздражающие ситуации; часто беседуйте с учеником.</a:t>
                      </a:r>
                      <a:endParaRPr b="0" lang="en-US" sz="16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Заголовок 1" descr=""/>
          <p:cNvPicPr/>
          <p:nvPr/>
        </p:nvPicPr>
        <p:blipFill>
          <a:blip r:embed="rId1"/>
          <a:stretch/>
        </p:blipFill>
        <p:spPr>
          <a:xfrm>
            <a:off x="554040" y="-152280"/>
            <a:ext cx="8589960" cy="1706400"/>
          </a:xfrm>
          <a:prstGeom prst="rect">
            <a:avLst/>
          </a:prstGeom>
          <a:ln w="0">
            <a:noFill/>
          </a:ln>
        </p:spPr>
      </p:pic>
      <p:sp>
        <p:nvSpPr>
          <p:cNvPr id="521" name=""/>
          <p:cNvSpPr txBox="1"/>
          <p:nvPr/>
        </p:nvSpPr>
        <p:spPr>
          <a:xfrm>
            <a:off x="477360" y="1744200"/>
            <a:ext cx="8587080" cy="5132520"/>
          </a:xfrm>
          <a:prstGeom prst="rect">
            <a:avLst/>
          </a:prstGeom>
          <a:noFill/>
          <a:ln w="0">
            <a:noFill/>
          </a:ln>
        </p:spPr>
        <p:txBody>
          <a:bodyPr lIns="97200" rIns="97200" tIns="48600" bIns="48600" anchor="t">
            <a:normAutofit/>
          </a:bodyPr>
          <a:p>
            <a:pPr marL="582480" indent="-43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ФИО ученика, класс</a:t>
            </a:r>
            <a:endParaRPr b="0" lang="en-US" sz="2800" spc="-1" strike="noStrike">
              <a:solidFill>
                <a:srgbClr val="ffffff"/>
              </a:solidFill>
              <a:latin typeface="Times New Roman"/>
            </a:endParaRPr>
          </a:p>
          <a:p>
            <a:pPr marL="582480" indent="-43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Результаты обследования методом Тулуз-Пьерона</a:t>
            </a:r>
            <a:endParaRPr b="0" lang="en-US" sz="2800" spc="-1" strike="noStrike">
              <a:solidFill>
                <a:srgbClr val="ffffff"/>
              </a:solidFill>
              <a:latin typeface="Times New Roman"/>
            </a:endParaRPr>
          </a:p>
          <a:p>
            <a:pPr marL="582480" indent="-43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3.Определение степени тяжести СДВГ (критерии СДВГ  по МКБ-10) Нарушение внимания, импульсивность)</a:t>
            </a:r>
            <a:endParaRPr b="0" lang="en-US" sz="2800" spc="-1" strike="noStrike">
              <a:solidFill>
                <a:srgbClr val="ffffff"/>
              </a:solidFill>
              <a:latin typeface="Times New Roman"/>
            </a:endParaRPr>
          </a:p>
          <a:p>
            <a:pPr marL="582480" indent="-43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4.Заключение консилиума с обоснованием проблемы</a:t>
            </a:r>
            <a:endParaRPr b="0" lang="en-US" sz="2800" spc="-1" strike="noStrike">
              <a:solidFill>
                <a:srgbClr val="ffffff"/>
              </a:solidFill>
              <a:latin typeface="Times New Roman"/>
            </a:endParaRPr>
          </a:p>
          <a:p>
            <a:pPr marL="582480" indent="-43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a:p>
            <a:pPr marL="582480" indent="-43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едагог-психолог ФИО_________________\___________________\</a:t>
            </a:r>
            <a:endParaRPr b="0" lang="en-US" sz="2800" spc="-1" strike="noStrike">
              <a:solidFill>
                <a:srgbClr val="ffffff"/>
              </a:solidFill>
              <a:latin typeface="Times New Roman"/>
            </a:endParaRPr>
          </a:p>
          <a:p>
            <a:pPr marL="582480" indent="-436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Заголовок 1" descr=""/>
          <p:cNvPicPr/>
          <p:nvPr/>
        </p:nvPicPr>
        <p:blipFill>
          <a:blip r:embed="rId1"/>
          <a:stretch/>
        </p:blipFill>
        <p:spPr>
          <a:xfrm>
            <a:off x="476280" y="311040"/>
            <a:ext cx="8588520" cy="2212920"/>
          </a:xfrm>
          <a:prstGeom prst="rect">
            <a:avLst/>
          </a:prstGeom>
          <a:ln w="0">
            <a:noFill/>
          </a:ln>
        </p:spPr>
      </p:pic>
      <p:graphicFrame>
        <p:nvGraphicFramePr>
          <p:cNvPr id="523" name=""/>
          <p:cNvGraphicFramePr/>
          <p:nvPr/>
        </p:nvGraphicFramePr>
        <p:xfrm>
          <a:off x="477720" y="2308320"/>
          <a:ext cx="8587080" cy="1854000"/>
        </p:xfrm>
        <a:graphic>
          <a:graphicData uri="http://schemas.openxmlformats.org/drawingml/2006/table">
            <a:tbl>
              <a:tblPr/>
              <a:tblGrid>
                <a:gridCol w="2146320"/>
                <a:gridCol w="2148120"/>
                <a:gridCol w="2146320"/>
                <a:gridCol w="21463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ФИ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озраст</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ласс \ групп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graphicFrame>
        <p:nvGraphicFramePr>
          <p:cNvPr id="524" name=""/>
          <p:cNvGraphicFramePr/>
          <p:nvPr/>
        </p:nvGraphicFramePr>
        <p:xfrm>
          <a:off x="555480" y="4167360"/>
          <a:ext cx="8501040" cy="2571480"/>
        </p:xfrm>
        <a:graphic>
          <a:graphicData uri="http://schemas.openxmlformats.org/drawingml/2006/table">
            <a:tbl>
              <a:tblPr/>
              <a:tblGrid>
                <a:gridCol w="8501040"/>
              </a:tblGrid>
              <a:tr h="25714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Calibri"/>
                        </a:rPr>
                        <a:t>       </a:t>
                      </a:r>
                      <a:r>
                        <a:rPr b="0" lang="ru-RU" sz="1800" spc="-1" strike="noStrike">
                          <a:solidFill>
                            <a:srgbClr val="ffffff"/>
                          </a:solidFill>
                          <a:latin typeface="Arial"/>
                          <a:ea typeface="Calibri"/>
                        </a:rPr>
                        <a:t>Психолого-педагогические характеристики детей прилагаютс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Calibri"/>
                        </a:rPr>
                        <a:t>            </a:t>
                      </a:r>
                      <a:r>
                        <a:rPr b="1" lang="ru-RU" sz="1800" spc="-1" strike="noStrike">
                          <a:solidFill>
                            <a:srgbClr val="ffffff"/>
                          </a:solidFill>
                          <a:latin typeface="Arial"/>
                          <a:ea typeface="Calibri"/>
                        </a:rPr>
                        <a:t>Директор ГОУ (ДОУ) №</a:t>
                      </a:r>
                      <a:r>
                        <a:rPr b="0" lang="ru-RU" sz="1800" spc="-1" strike="noStrike">
                          <a:solidFill>
                            <a:srgbClr val="ffffff"/>
                          </a:solidFill>
                          <a:latin typeface="Arial"/>
                          <a:ea typeface="Calibri"/>
                        </a:rPr>
                        <a:t>_________________\______________\</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bl>
          </a:graphicData>
        </a:graphic>
      </p:graphicFrame>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Заголовок 1" descr=""/>
          <p:cNvPicPr/>
          <p:nvPr/>
        </p:nvPicPr>
        <p:blipFill>
          <a:blip r:embed="rId1"/>
          <a:stretch/>
        </p:blipFill>
        <p:spPr>
          <a:xfrm>
            <a:off x="476280" y="298440"/>
            <a:ext cx="8588520" cy="939960"/>
          </a:xfrm>
          <a:prstGeom prst="rect">
            <a:avLst/>
          </a:prstGeom>
          <a:ln w="0">
            <a:noFill/>
          </a:ln>
        </p:spPr>
      </p:pic>
      <p:sp>
        <p:nvSpPr>
          <p:cNvPr id="526" name=""/>
          <p:cNvSpPr txBox="1"/>
          <p:nvPr/>
        </p:nvSpPr>
        <p:spPr>
          <a:xfrm>
            <a:off x="477360" y="1236600"/>
            <a:ext cx="8587080" cy="5640480"/>
          </a:xfrm>
          <a:prstGeom prst="rect">
            <a:avLst/>
          </a:prstGeom>
          <a:noFill/>
          <a:ln w="0">
            <a:noFill/>
          </a:ln>
        </p:spPr>
        <p:txBody>
          <a:bodyPr lIns="97200" rIns="97200" tIns="48600" bIns="48600" anchor="t">
            <a:normAutofit/>
          </a:bodyPr>
          <a:p>
            <a:pPr marL="582480" indent="-436320">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информационно-запросный лист) на учащегося (воспитанника) от педагога  образовательного учреждения для направления в ЦПМСС</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rPr>
              <a:t> </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rPr>
              <a:t>1. Фамилия, имя, отчество ученика</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rPr>
              <a:t>2. Возраст (до полугода)</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rPr>
              <a:t>3. № образовательного учреждения, класс (группа)</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rPr>
              <a:t>4. Фамилия, имя, отчество родителей, контактный телефон</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rPr>
              <a:t>5. Педагогический статус семьи (семейная ситуация развития)</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rPr>
              <a:t>6. Поведенческие особенности ребенка:</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rPr>
              <a:t>7. Общий интеллект ребенка (как он понимает и усваивает учебный материал, может ли применять усвоенные навыки в новой ситуации).</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rPr>
              <a:t>8. Дата, фамилия, имя, отчество педагога (ответственного за сопровождение), контактный телефон</a:t>
            </a:r>
            <a:endParaRPr b="0" lang="en-US" sz="1900" spc="-1" strike="noStrike">
              <a:solidFill>
                <a:srgbClr val="ffffff"/>
              </a:solidFill>
              <a:latin typeface="Times New Roman"/>
            </a:endParaRPr>
          </a:p>
          <a:p>
            <a:pPr marL="582480" indent="-4363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                </a:t>
            </a:r>
            <a:r>
              <a:rPr b="1" lang="ru-RU" sz="1900" spc="-1" strike="noStrike">
                <a:solidFill>
                  <a:srgbClr val="ffffff"/>
                </a:solidFill>
                <a:latin typeface="Times New Roman"/>
              </a:rPr>
              <a:t>________________________________________________</a:t>
            </a:r>
            <a:endParaRPr b="0" lang="en-US" sz="1900" spc="-1" strike="noStrike">
              <a:solidFill>
                <a:srgbClr val="ffffff"/>
              </a:solidFill>
              <a:latin typeface="Times New Roman"/>
            </a:endParaRPr>
          </a:p>
          <a:p>
            <a:pPr marL="582480" indent="-4363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Характеристика – представление передается в ЦПМСС в закрытом конверте лично педагогом  или ответственным за сопровождение, с отметкой о согласии родителей на обследование в Центре. Это основные пункты характеристики, которую нужно предоставить в более полном объеме.</a:t>
            </a:r>
            <a:endParaRPr b="0" lang="en-US" sz="1900" spc="-1" strike="noStrike">
              <a:solidFill>
                <a:srgbClr val="ffffff"/>
              </a:solidFill>
              <a:latin typeface="Times New Roman"/>
            </a:endParaRPr>
          </a:p>
          <a:p>
            <a:pPr marL="582480" indent="-436320" algn="just">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Заголовок 1" descr=""/>
          <p:cNvPicPr/>
          <p:nvPr/>
        </p:nvPicPr>
        <p:blipFill>
          <a:blip r:embed="rId1"/>
          <a:stretch/>
        </p:blipFill>
        <p:spPr>
          <a:xfrm>
            <a:off x="476280" y="115920"/>
            <a:ext cx="8588520" cy="1427040"/>
          </a:xfrm>
          <a:prstGeom prst="rect">
            <a:avLst/>
          </a:prstGeom>
          <a:ln w="0">
            <a:noFill/>
          </a:ln>
        </p:spPr>
      </p:pic>
      <p:sp>
        <p:nvSpPr>
          <p:cNvPr id="528" name=""/>
          <p:cNvSpPr txBox="1"/>
          <p:nvPr/>
        </p:nvSpPr>
        <p:spPr>
          <a:xfrm>
            <a:off x="477360" y="1744200"/>
            <a:ext cx="8587080" cy="5132520"/>
          </a:xfrm>
          <a:prstGeom prst="rect">
            <a:avLst/>
          </a:prstGeom>
          <a:noFill/>
          <a:ln w="0">
            <a:noFill/>
          </a:ln>
        </p:spPr>
        <p:txBody>
          <a:bodyPr lIns="97200" rIns="97200" tIns="48600" bIns="48600" anchor="t">
            <a:normAutofit/>
          </a:bodyPr>
          <a:p>
            <a:pPr marL="582480" indent="-43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rPr>
              <a:t>(гиперактивность, нарушение внимания и импульсивность)</a:t>
            </a:r>
            <a:endParaRPr b="0" lang="en-US" sz="2300" spc="-1" strike="noStrike">
              <a:solidFill>
                <a:srgbClr val="ffffff"/>
              </a:solidFill>
              <a:latin typeface="Times New Roman"/>
            </a:endParaRPr>
          </a:p>
          <a:p>
            <a:pPr marL="582480" indent="-43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0000"/>
                </a:solidFill>
                <a:latin typeface="Times New Roman"/>
              </a:rPr>
              <a:t>       </a:t>
            </a:r>
            <a:r>
              <a:rPr b="1" lang="ru-RU" sz="2300" spc="-1" strike="noStrike">
                <a:solidFill>
                  <a:srgbClr val="ff0000"/>
                </a:solidFill>
                <a:latin typeface="Times New Roman"/>
              </a:rPr>
              <a:t>Гиперактивность:</a:t>
            </a:r>
            <a:endParaRPr b="0" lang="en-US" sz="2300" spc="-1" strike="noStrike">
              <a:solidFill>
                <a:srgbClr val="ffffff"/>
              </a:solidFill>
              <a:latin typeface="Times New Roman"/>
            </a:endParaRPr>
          </a:p>
          <a:p>
            <a:pPr marL="582480" indent="-43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    </a:t>
            </a:r>
            <a:r>
              <a:rPr b="0" lang="ru-RU" sz="2300" spc="-1" strike="noStrike">
                <a:solidFill>
                  <a:srgbClr val="ffffff"/>
                </a:solidFill>
                <a:latin typeface="Times New Roman"/>
              </a:rPr>
              <a:t>1.  Неусидчивость, неспособность длительное время сидеть на одном месте (поэтому не любит и не может играть в спокойные игры)</a:t>
            </a:r>
            <a:endParaRPr b="0" lang="en-US" sz="2300" spc="-1" strike="noStrike">
              <a:solidFill>
                <a:srgbClr val="ffffff"/>
              </a:solidFill>
              <a:latin typeface="Times New Roman"/>
            </a:endParaRPr>
          </a:p>
          <a:p>
            <a:pPr marL="582480" indent="-43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    </a:t>
            </a:r>
            <a:r>
              <a:rPr b="0" lang="ru-RU" sz="2300" spc="-1" strike="noStrike">
                <a:solidFill>
                  <a:srgbClr val="ffffff"/>
                </a:solidFill>
                <a:latin typeface="Times New Roman"/>
              </a:rPr>
              <a:t>2.   Поведенческие суетлив, беспокоен</a:t>
            </a:r>
            <a:endParaRPr b="0" lang="en-US" sz="2300" spc="-1" strike="noStrike">
              <a:solidFill>
                <a:srgbClr val="ffffff"/>
              </a:solidFill>
              <a:latin typeface="Times New Roman"/>
            </a:endParaRPr>
          </a:p>
          <a:p>
            <a:pPr marL="582480" indent="-43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    </a:t>
            </a:r>
            <a:r>
              <a:rPr b="0" lang="ru-RU" sz="2300" spc="-1" strike="noStrike">
                <a:solidFill>
                  <a:srgbClr val="ffffff"/>
                </a:solidFill>
                <a:latin typeface="Times New Roman"/>
              </a:rPr>
              <a:t>3.  Избыточная (и как правило бесцельная) двигательная активность (бегает, пытается куда-то влезть, совершает многочисленные посторонние движения, которые часто не замечает), либо проявляющаяся и усиливающаяся при утомлении, либо наблюдаемой постоянно вне связи утомлением («как будто к нему прикрепили мотор»)</a:t>
            </a:r>
            <a:endParaRPr b="0" lang="en-US" sz="2300" spc="-1" strike="noStrike">
              <a:solidFill>
                <a:srgbClr val="ffffff"/>
              </a:solidFill>
              <a:latin typeface="Times New Roman"/>
            </a:endParaRPr>
          </a:p>
          <a:p>
            <a:pPr marL="582480" indent="-43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    </a:t>
            </a:r>
            <a:r>
              <a:rPr b="0" lang="ru-RU" sz="2300" spc="-1" strike="noStrike">
                <a:solidFill>
                  <a:srgbClr val="ffffff"/>
                </a:solidFill>
                <a:latin typeface="Times New Roman"/>
              </a:rPr>
              <a:t>4.  Чрезмерно болтлив (даже играя с собой, ребенок может постоянно и громко говорить вслух)</a:t>
            </a:r>
            <a:endParaRPr b="0" lang="en-US" sz="2300" spc="-1" strike="noStrike">
              <a:solidFill>
                <a:srgbClr val="ffffff"/>
              </a:solidFill>
              <a:latin typeface="Times New Roman"/>
            </a:endParaRPr>
          </a:p>
          <a:p>
            <a:pPr marL="582480" indent="-436320">
              <a:lnSpc>
                <a:spcPct val="80000"/>
              </a:lnSpc>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p:transition spd="med">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Заголовок 1" descr=""/>
          <p:cNvPicPr/>
          <p:nvPr/>
        </p:nvPicPr>
        <p:blipFill>
          <a:blip r:embed="rId1"/>
          <a:stretch/>
        </p:blipFill>
        <p:spPr>
          <a:xfrm>
            <a:off x="476280" y="298440"/>
            <a:ext cx="8588520" cy="1433520"/>
          </a:xfrm>
          <a:prstGeom prst="rect">
            <a:avLst/>
          </a:prstGeom>
          <a:ln w="0">
            <a:noFill/>
          </a:ln>
        </p:spPr>
      </p:pic>
      <p:sp>
        <p:nvSpPr>
          <p:cNvPr id="530" name=""/>
          <p:cNvSpPr txBox="1"/>
          <p:nvPr/>
        </p:nvSpPr>
        <p:spPr>
          <a:xfrm>
            <a:off x="477360" y="1744200"/>
            <a:ext cx="8587080" cy="5132520"/>
          </a:xfrm>
          <a:prstGeom prst="rect">
            <a:avLst/>
          </a:prstGeom>
          <a:noFill/>
          <a:ln w="0">
            <a:noFill/>
          </a:ln>
        </p:spPr>
        <p:txBody>
          <a:bodyPr lIns="97200" rIns="97200" tIns="48600" bIns="48600" anchor="t">
            <a:normAutofit/>
          </a:bodyPr>
          <a:p>
            <a:pPr marL="582480" indent="-4363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1. Неряшливость</a:t>
            </a:r>
            <a:endParaRPr b="0" lang="en-US" sz="2100" spc="-1" strike="noStrike">
              <a:solidFill>
                <a:srgbClr val="ffffff"/>
              </a:solidFill>
              <a:latin typeface="Times New Roman"/>
            </a:endParaRPr>
          </a:p>
          <a:p>
            <a:pPr marL="582480" indent="-4363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2. Шумные выходки во время уроков (может без разрешения встать и выйти из класса, выкрикнуть что-то с места)</a:t>
            </a:r>
            <a:endParaRPr b="0" lang="en-US" sz="2100" spc="-1" strike="noStrike">
              <a:solidFill>
                <a:srgbClr val="ffffff"/>
              </a:solidFill>
              <a:latin typeface="Times New Roman"/>
            </a:endParaRPr>
          </a:p>
          <a:p>
            <a:pPr marL="582480" indent="-4363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3. Нетерпеливость (никогда не могут дождаться своей очереди, часто влезают в работу и разговор других детей)</a:t>
            </a:r>
            <a:endParaRPr b="0" lang="en-US" sz="2100" spc="-1" strike="noStrike">
              <a:solidFill>
                <a:srgbClr val="ffffff"/>
              </a:solidFill>
              <a:latin typeface="Times New Roman"/>
            </a:endParaRPr>
          </a:p>
          <a:p>
            <a:pPr marL="582480" indent="-4363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4. Эмоциональная лабильность (частая смена настроения)</a:t>
            </a:r>
            <a:endParaRPr b="0" lang="en-US" sz="2100" spc="-1" strike="noStrike">
              <a:solidFill>
                <a:srgbClr val="ffffff"/>
              </a:solidFill>
              <a:latin typeface="Times New Roman"/>
            </a:endParaRPr>
          </a:p>
          <a:p>
            <a:pPr marL="582480" indent="-4363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5. Не способен остановиться и подумать, прежде чем заговорить или совершить действие</a:t>
            </a:r>
            <a:endParaRPr b="0" lang="en-US" sz="2100" spc="-1" strike="noStrike">
              <a:solidFill>
                <a:srgbClr val="ffffff"/>
              </a:solidFill>
              <a:latin typeface="Times New Roman"/>
            </a:endParaRPr>
          </a:p>
          <a:p>
            <a:pPr marL="582480" indent="-4363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6. Отвечает на вопросы не задумываясь не дослушав до конца вопрос</a:t>
            </a:r>
            <a:endParaRPr b="0" lang="en-US" sz="2100" spc="-1" strike="noStrike">
              <a:solidFill>
                <a:srgbClr val="ffffff"/>
              </a:solidFill>
              <a:latin typeface="Times New Roman"/>
            </a:endParaRPr>
          </a:p>
          <a:p>
            <a:pPr marL="582480" indent="-4363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7. Мешает другим детям, взрослым, пристает, влезает в  чужие разговоры, игры</a:t>
            </a:r>
            <a:endParaRPr b="0" lang="en-US" sz="2100" spc="-1" strike="noStrike">
              <a:solidFill>
                <a:srgbClr val="ffffff"/>
              </a:solidFill>
              <a:latin typeface="Times New Roman"/>
            </a:endParaRPr>
          </a:p>
          <a:p>
            <a:pPr marL="582480" indent="-4363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8. Совершает опасные для себя и окружающих действия, но при этом не ищет острых ощущений или приключений</a:t>
            </a:r>
            <a:endParaRPr b="0" lang="en-US" sz="2100" spc="-1" strike="noStrike">
              <a:solidFill>
                <a:srgbClr val="ffffff"/>
              </a:solidFill>
              <a:latin typeface="Times New Roman"/>
            </a:endParaRPr>
          </a:p>
          <a:p>
            <a:pPr marL="582480" indent="-4363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9. Часто вступает в драки, но не по причине агрессивности, а из-за неумения регулировать свои эмоции, не умения проигрывать</a:t>
            </a:r>
            <a:endParaRPr b="0" lang="en-US" sz="2100" spc="-1" strike="noStrike">
              <a:solidFill>
                <a:srgbClr val="ffffff"/>
              </a:solidFill>
              <a:latin typeface="Times New Roman"/>
            </a:endParaRPr>
          </a:p>
          <a:p>
            <a:pPr marL="582480" indent="-436320" algn="just">
              <a:lnSpc>
                <a:spcPct val="80000"/>
              </a:lnSpc>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p:transition spd="med">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Заголовок 1" descr=""/>
          <p:cNvPicPr/>
          <p:nvPr/>
        </p:nvPicPr>
        <p:blipFill>
          <a:blip r:embed="rId1"/>
          <a:stretch/>
        </p:blipFill>
        <p:spPr>
          <a:xfrm>
            <a:off x="476280" y="115920"/>
            <a:ext cx="8588520" cy="1427040"/>
          </a:xfrm>
          <a:prstGeom prst="rect">
            <a:avLst/>
          </a:prstGeom>
          <a:ln w="0">
            <a:noFill/>
          </a:ln>
        </p:spPr>
      </p:pic>
      <p:sp>
        <p:nvSpPr>
          <p:cNvPr id="532" name=""/>
          <p:cNvSpPr txBox="1"/>
          <p:nvPr/>
        </p:nvSpPr>
        <p:spPr>
          <a:xfrm>
            <a:off x="477360" y="1744200"/>
            <a:ext cx="8587080" cy="5132520"/>
          </a:xfrm>
          <a:prstGeom prst="rect">
            <a:avLst/>
          </a:prstGeom>
          <a:noFill/>
          <a:ln w="0">
            <a:noFill/>
          </a:ln>
        </p:spPr>
        <p:txBody>
          <a:bodyPr lIns="97200" rIns="97200" tIns="48600" bIns="48600" anchor="t">
            <a:normAutofit/>
          </a:bodyPr>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С трудом сохраняет внимание при выполнении заданий или во время игр</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Не в состоянии исполнить задание до конца, быстро переходит от незавершенного к новому, что не связано с негативным настроением или непониманием сути задания.</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Имеет сложности в выполнении заданий, требующих длительной концентрации внимания (избегает или высказывает агрессивность)</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Имеет различные нарушения избирательного внимания (неспособность надолго сосредоточиться на предмете)</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5. Проявления забывчивости в повседневных ситуациях</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6. Повышенно отвлекаем (легко отвлекается на постороннее)</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7. Не может самостоятельно организовать продуктивную деятельность, но если и организует, то не последователен в своих действиях</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8. Часто теряет личные вещи и предметы, необходимые для выполнения заданий в школе и дома</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9. Имеются существенные колебания показателей внимания (если деятельность ребенка связана с заинтересованностью, увлеченностью и удовольствием, то они способны удерживать внимание часами)</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0.  «Не слушают» обращенную речь</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1. Демонстрируют способность удерживать внимание на деталях, поэтому не в состоянии следовать инструкциям</a:t>
            </a:r>
            <a:endParaRPr b="0" lang="en-US" sz="1600" spc="-1" strike="noStrike">
              <a:solidFill>
                <a:srgbClr val="ffffff"/>
              </a:solidFill>
              <a:latin typeface="Times New Roman"/>
            </a:endParaRPr>
          </a:p>
          <a:p>
            <a:pPr marL="582480" indent="-4363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2. Допускают частые ошибки в сферах своей деятельности</a:t>
            </a:r>
            <a:endParaRPr b="0" lang="en-US" sz="1600" spc="-1" strike="noStrike">
              <a:solidFill>
                <a:srgbClr val="ffffff"/>
              </a:solidFill>
              <a:latin typeface="Times New Roman"/>
            </a:endParaRPr>
          </a:p>
          <a:p>
            <a:pPr marL="582480" indent="-4363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Заголовок 1" descr=""/>
          <p:cNvPicPr/>
          <p:nvPr/>
        </p:nvPicPr>
        <p:blipFill>
          <a:blip r:embed="rId1"/>
          <a:stretch/>
        </p:blipFill>
        <p:spPr>
          <a:xfrm>
            <a:off x="476280" y="298440"/>
            <a:ext cx="8588520" cy="1433520"/>
          </a:xfrm>
          <a:prstGeom prst="rect">
            <a:avLst/>
          </a:prstGeom>
          <a:ln w="0">
            <a:noFill/>
          </a:ln>
        </p:spPr>
      </p:pic>
      <p:sp>
        <p:nvSpPr>
          <p:cNvPr id="534" name=""/>
          <p:cNvSpPr txBox="1"/>
          <p:nvPr/>
        </p:nvSpPr>
        <p:spPr>
          <a:xfrm>
            <a:off x="477360" y="1744200"/>
            <a:ext cx="8587080" cy="5132520"/>
          </a:xfrm>
          <a:prstGeom prst="rect">
            <a:avLst/>
          </a:prstGeom>
          <a:noFill/>
          <a:ln w="0">
            <a:noFill/>
          </a:ln>
        </p:spPr>
        <p:txBody>
          <a:bodyPr lIns="97200" rIns="97200" tIns="48600" bIns="48600" anchor="t">
            <a:normAutofit fontScale="95000"/>
          </a:bodyPr>
          <a:p>
            <a:pPr marL="553320" indent="-414360" algn="just">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 Тренировка выполнения теста</a:t>
            </a:r>
            <a:endParaRPr b="0" lang="en-US" sz="1400" spc="-1" strike="noStrike">
              <a:solidFill>
                <a:srgbClr val="ffffff"/>
              </a:solidFill>
              <a:latin typeface="Times New Roman"/>
            </a:endParaRPr>
          </a:p>
          <a:p>
            <a:pPr marL="553320" indent="-414360" algn="just">
              <a:lnSpc>
                <a:spcPct val="10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Book Antiqua"/>
              </a:rPr>
              <a:t>В целях правильного понимания содержания задания первоначально проводится тренировка детей.</a:t>
            </a:r>
            <a:endParaRPr b="0" lang="en-US" sz="1400" spc="-1" strike="noStrike">
              <a:solidFill>
                <a:srgbClr val="ffffff"/>
              </a:solidFill>
              <a:latin typeface="Times New Roman"/>
            </a:endParaRPr>
          </a:p>
          <a:p>
            <a:pPr marL="553320" indent="-414360" algn="just">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Times New Roman"/>
              </a:rPr>
              <a:t>Инструкция к тренировочному тесту</a:t>
            </a:r>
            <a:r>
              <a:rPr b="0" lang="ru-RU" sz="1400" spc="-1" strike="noStrike">
                <a:solidFill>
                  <a:srgbClr val="ffffff"/>
                </a:solidFill>
                <a:latin typeface="Book Antiqua"/>
              </a:rPr>
              <a:t>: «Ребята, сейчас мы будем работать вот на таких бланках с квадратиками (</a:t>
            </a:r>
            <a:r>
              <a:rPr b="0" i="1" lang="ru-RU" sz="1400" spc="-1" strike="noStrike">
                <a:solidFill>
                  <a:srgbClr val="ffffff"/>
                </a:solidFill>
                <a:latin typeface="Times New Roman"/>
              </a:rPr>
              <a:t>показать расположение листа</a:t>
            </a:r>
            <a:r>
              <a:rPr b="0" lang="ru-RU" sz="1400" spc="-1" strike="noStrike">
                <a:solidFill>
                  <a:srgbClr val="ffffff"/>
                </a:solidFill>
                <a:latin typeface="Book Antiqua"/>
              </a:rPr>
              <a:t>). Найдите слева на листке вот такие два квадратика, какие нарисованы у меня на доске. Чтобы я увидел, что вы правильно поняли, поставьте на них пальчик (</a:t>
            </a:r>
            <a:r>
              <a:rPr b="0" i="1" lang="ru-RU" sz="1400" spc="-1" strike="noStrike">
                <a:solidFill>
                  <a:srgbClr val="ffffff"/>
                </a:solidFill>
                <a:latin typeface="Times New Roman"/>
              </a:rPr>
              <a:t>показать на доске и на листке, убедиться, что все нашли указанные квадратики</a:t>
            </a:r>
            <a:r>
              <a:rPr b="0" lang="ru-RU" sz="1400" spc="-1" strike="noStrike">
                <a:solidFill>
                  <a:srgbClr val="ffffff"/>
                </a:solidFill>
                <a:latin typeface="Book Antiqua"/>
              </a:rPr>
              <a:t>). Эти два квадратика - образцы. Рассмотрите их внимательно. У первого квадратика закрашен левый бочок, а у второго правый верхний уголок. Давайте посмотрим на первый квадратик, нарисованный на верхней длинной строчке. Скажите, похож ли этот квадратик на какой-нибудь из квадратиков-образцов? Правильно, не похож. Чтобы показать это, давайте его подчеркнем (</a:t>
            </a:r>
            <a:r>
              <a:rPr b="0" i="1" lang="ru-RU" sz="1400" spc="-1" strike="noStrike">
                <a:solidFill>
                  <a:srgbClr val="ffffff"/>
                </a:solidFill>
                <a:latin typeface="Times New Roman"/>
              </a:rPr>
              <a:t>подчеркните на доске и попросите сделать детей то же самое в их бланках</a:t>
            </a:r>
            <a:r>
              <a:rPr b="0" lang="ru-RU" sz="1400" spc="-1" strike="noStrike">
                <a:solidFill>
                  <a:srgbClr val="ffffff"/>
                </a:solidFill>
                <a:latin typeface="Book Antiqua"/>
              </a:rPr>
              <a:t>). А теперь давайте посмотрим на следующий квадратик. Он совпадает с каким-нибудь образцом? Правильно, совпадает, а с каким? Со вторым! Чтобы показать, что он совпадает, давайте его зачеркнем вертикальной чертой! (</a:t>
            </a:r>
            <a:r>
              <a:rPr b="0" i="1" lang="ru-RU" sz="1400" spc="-1" strike="noStrike">
                <a:solidFill>
                  <a:srgbClr val="ffffff"/>
                </a:solidFill>
                <a:latin typeface="Times New Roman"/>
              </a:rPr>
              <a:t>зачерните на доске и попросите детей сделать так же</a:t>
            </a:r>
            <a:r>
              <a:rPr b="0" lang="ru-RU" sz="1400" spc="-1" strike="noStrike">
                <a:solidFill>
                  <a:srgbClr val="ffffff"/>
                </a:solidFill>
                <a:latin typeface="Book Antiqua"/>
              </a:rPr>
              <a:t>)».</a:t>
            </a:r>
            <a:endParaRPr b="0" lang="en-US" sz="1400" spc="-1" strike="noStrike">
              <a:solidFill>
                <a:srgbClr val="ffffff"/>
              </a:solidFill>
              <a:latin typeface="Times New Roman"/>
            </a:endParaRPr>
          </a:p>
          <a:p>
            <a:pPr marL="553320" indent="-414360" algn="just">
              <a:lnSpc>
                <a:spcPct val="10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Book Antiqua"/>
              </a:rPr>
              <a:t>Аналогично спрашивайте детей про каждый квадратик, приведенный на доске. После того, как квадратики на доске закончатся, предложите детям самостоятельно выполнить предложенное задание, потренировавшись до конца строки. Переспросите, все ли поняли задание. Если заметите у какого-либо ребенка ошибки, то проработайте с ним инструкцию к данному заданию еще раз. Попросите детей, когда они закончат, спокойно подождать, пока другие ребята завершат свою работу. Запомните тех из них, которые не смогли правильно понять инструкцию в процессе группового объяснения для того, чтобы в дальнейшем выяснить причину.</a:t>
            </a:r>
            <a:endParaRPr b="0" lang="en-US" sz="1400" spc="-1" strike="noStrike">
              <a:solidFill>
                <a:srgbClr val="ffffff"/>
              </a:solidFill>
              <a:latin typeface="Times New Roman"/>
            </a:endParaRPr>
          </a:p>
          <a:p>
            <a:pPr marL="553320" indent="-414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Заголовок 1" descr=""/>
          <p:cNvPicPr/>
          <p:nvPr/>
        </p:nvPicPr>
        <p:blipFill>
          <a:blip r:embed="rId1"/>
          <a:stretch/>
        </p:blipFill>
        <p:spPr>
          <a:xfrm>
            <a:off x="476280" y="115920"/>
            <a:ext cx="8588520" cy="1859040"/>
          </a:xfrm>
          <a:prstGeom prst="rect">
            <a:avLst/>
          </a:prstGeom>
          <a:ln w="0">
            <a:noFill/>
          </a:ln>
        </p:spPr>
      </p:pic>
      <p:sp>
        <p:nvSpPr>
          <p:cNvPr id="494" name=""/>
          <p:cNvSpPr txBox="1"/>
          <p:nvPr/>
        </p:nvSpPr>
        <p:spPr>
          <a:xfrm>
            <a:off x="477360" y="1744200"/>
            <a:ext cx="8587080" cy="5132520"/>
          </a:xfrm>
          <a:prstGeom prst="rect">
            <a:avLst/>
          </a:prstGeom>
          <a:noFill/>
          <a:ln w="0">
            <a:noFill/>
          </a:ln>
        </p:spPr>
        <p:txBody>
          <a:bodyPr lIns="97200" rIns="97200" tIns="48600" bIns="48600" anchor="t">
            <a:normAutofit/>
          </a:bodyPr>
          <a:p>
            <a:pPr marL="582480" indent="-436320" algn="just">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Когда ребенок с СДВГ достигает школьного возраста, появляется множество проблем, которые нужно учесть, чтобы позволить ребенку полностью реализовать свой потенциал. Эти дети нуждаются в четко заведенном порядке. Не очень-то хорошо помещать их в класс, в котором постоянно меняются учителя: дети будут не в состоянии справиться с постоянным изменением привычного им порядка. При их обучении следует использовать наиболее понятные им методы. Им легче учиться руками, осязая предмет. Поэтому лучше как можно больше использовать при обучении их руки, чем сажать их за первую парту, заставляя переписывать с доски или выслушивать массу фактов и подробностей, ожидая, что они все запишут и запомнят. </a:t>
            </a:r>
            <a:endParaRPr b="0" lang="en-US" sz="2600" spc="-1" strike="noStrike">
              <a:solidFill>
                <a:srgbClr val="ffffff"/>
              </a:solidFill>
              <a:latin typeface="Times New Roman"/>
            </a:endParaRPr>
          </a:p>
        </p:txBody>
      </p:sp>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Заголовок 1" descr=""/>
          <p:cNvPicPr/>
          <p:nvPr/>
        </p:nvPicPr>
        <p:blipFill>
          <a:blip r:embed="rId1"/>
          <a:stretch/>
        </p:blipFill>
        <p:spPr>
          <a:xfrm>
            <a:off x="476280" y="115920"/>
            <a:ext cx="8588520" cy="1427040"/>
          </a:xfrm>
          <a:prstGeom prst="rect">
            <a:avLst/>
          </a:prstGeom>
          <a:ln w="0">
            <a:noFill/>
          </a:ln>
        </p:spPr>
      </p:pic>
      <p:sp>
        <p:nvSpPr>
          <p:cNvPr id="536" name=""/>
          <p:cNvSpPr txBox="1"/>
          <p:nvPr/>
        </p:nvSpPr>
        <p:spPr>
          <a:xfrm>
            <a:off x="477360" y="1744200"/>
            <a:ext cx="8587080" cy="5132520"/>
          </a:xfrm>
          <a:prstGeom prst="rect">
            <a:avLst/>
          </a:prstGeom>
          <a:noFill/>
          <a:ln w="0">
            <a:noFill/>
          </a:ln>
        </p:spPr>
        <p:txBody>
          <a:bodyPr lIns="97200" rIns="97200" tIns="48600" bIns="48600" anchor="t">
            <a:normAutofit/>
          </a:bodyPr>
          <a:p>
            <a:pPr marL="582480" indent="-4363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u="sng">
                <a:solidFill>
                  <a:srgbClr val="ffffff"/>
                </a:solidFill>
                <a:uFillTx/>
                <a:latin typeface="Times New Roman"/>
              </a:rPr>
              <a:t>Инструкция:</a:t>
            </a:r>
            <a:r>
              <a:rPr b="0" lang="ru-RU" sz="1900" spc="-1" strike="noStrike">
                <a:solidFill>
                  <a:srgbClr val="ffffff"/>
                </a:solidFill>
                <a:latin typeface="Book Antiqua"/>
              </a:rPr>
              <a:t> «По моей команде: «Начали!», - мы будем все вместе выполнять само задание. Работать будем точно по времени. На каждую строчку я буду давать одну минуту. За одну минуту ни один из вас всю строчку сделать не успеет. Кто-то сделает столько (</a:t>
            </a:r>
            <a:r>
              <a:rPr b="0" i="1" lang="ru-RU" sz="1900" spc="-1" strike="noStrike">
                <a:solidFill>
                  <a:srgbClr val="ffffff"/>
                </a:solidFill>
                <a:latin typeface="Times New Roman"/>
              </a:rPr>
              <a:t>показать полстрочки</a:t>
            </a:r>
            <a:r>
              <a:rPr b="0" lang="ru-RU" sz="1900" spc="-1" strike="noStrike">
                <a:solidFill>
                  <a:srgbClr val="ffffff"/>
                </a:solidFill>
                <a:latin typeface="Book Antiqua"/>
              </a:rPr>
              <a:t>), кто-то столько (</a:t>
            </a:r>
            <a:r>
              <a:rPr b="0" i="1" lang="ru-RU" sz="1900" spc="-1" strike="noStrike">
                <a:solidFill>
                  <a:srgbClr val="ffffff"/>
                </a:solidFill>
                <a:latin typeface="Times New Roman"/>
              </a:rPr>
              <a:t>показать чуть больше или чуть меньше</a:t>
            </a:r>
            <a:r>
              <a:rPr b="0" lang="ru-RU" sz="1900" spc="-1" strike="noStrike">
                <a:solidFill>
                  <a:srgbClr val="ffffff"/>
                </a:solidFill>
                <a:latin typeface="Book Antiqua"/>
              </a:rPr>
              <a:t>). Не надо торопиться, надо работать внимательно! Как только пройдет минута, я скажу: «Стоп, пошла вторая строчка». Вы сразу переносите руку (</a:t>
            </a:r>
            <a:r>
              <a:rPr b="0" i="1" lang="ru-RU" sz="1900" spc="-1" strike="noStrike">
                <a:solidFill>
                  <a:srgbClr val="ffffff"/>
                </a:solidFill>
                <a:latin typeface="Times New Roman"/>
              </a:rPr>
              <a:t>показать на бланке, как перенести руку в начало второй строки</a:t>
            </a:r>
            <a:r>
              <a:rPr b="0" lang="ru-RU" sz="1900" spc="-1" strike="noStrike">
                <a:solidFill>
                  <a:srgbClr val="ffffff"/>
                </a:solidFill>
                <a:latin typeface="Book Antiqua"/>
              </a:rPr>
              <a:t>) и начинаете делать вторую строчку. Работаете, работаете, пройдет еще минута, и я скажу: «Стоп, пошла третья строчка». </a:t>
            </a:r>
            <a:endParaRPr b="0" lang="en-US" sz="1900" spc="-1" strike="noStrike">
              <a:solidFill>
                <a:srgbClr val="ffffff"/>
              </a:solidFill>
              <a:latin typeface="Times New Roman"/>
            </a:endParaRPr>
          </a:p>
          <a:p>
            <a:pPr marL="582480" indent="-43632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Book Antiqua"/>
              </a:rPr>
              <a:t>После этого вы сразу переносите руку и начинаете делать третью строчку. И так мы сделаем 10 строчек. Сравнивать нужно с этими же квадратиками (</a:t>
            </a:r>
            <a:r>
              <a:rPr b="0" i="1" lang="ru-RU" sz="1900" spc="-1" strike="noStrike">
                <a:solidFill>
                  <a:srgbClr val="ffffff"/>
                </a:solidFill>
                <a:latin typeface="Times New Roman"/>
              </a:rPr>
              <a:t>показать на квадратики-образцы</a:t>
            </a:r>
            <a:r>
              <a:rPr b="0" lang="ru-RU" sz="1900" spc="-1" strike="noStrike">
                <a:solidFill>
                  <a:srgbClr val="ffffff"/>
                </a:solidFill>
                <a:latin typeface="Book Antiqua"/>
              </a:rPr>
              <a:t>), делать все то же самое, что вы только что делали: так же зачеркивать и подчеркивать. Понятно?» </a:t>
            </a:r>
            <a:r>
              <a:rPr b="0" i="1" lang="ru-RU" sz="1900" spc="-1" strike="noStrike">
                <a:solidFill>
                  <a:srgbClr val="ffffff"/>
                </a:solidFill>
                <a:latin typeface="Times New Roman"/>
              </a:rPr>
              <a:t>Если дети ответили, что им все понятно, то скажите</a:t>
            </a:r>
            <a:r>
              <a:rPr b="0" lang="ru-RU" sz="1900" spc="-1" strike="noStrike">
                <a:solidFill>
                  <a:srgbClr val="ffffff"/>
                </a:solidFill>
                <a:latin typeface="Book Antiqua"/>
              </a:rPr>
              <a:t>: «Теперь все взяли ручки, поставили руку на первую строчку (проверить, чтобы это сделали все дети) и начали». </a:t>
            </a:r>
            <a:r>
              <a:rPr b="0" i="1" lang="ru-RU" sz="1900" spc="-1" strike="noStrike">
                <a:solidFill>
                  <a:srgbClr val="ffffff"/>
                </a:solidFill>
                <a:latin typeface="Times New Roman"/>
              </a:rPr>
              <a:t>По истечении 10 минут вы говорите детям</a:t>
            </a:r>
            <a:r>
              <a:rPr b="0" lang="ru-RU" sz="1900" spc="-1" strike="noStrike">
                <a:solidFill>
                  <a:srgbClr val="ffffff"/>
                </a:solidFill>
                <a:latin typeface="Book Antiqua"/>
              </a:rPr>
              <a:t>: «Стоп, все работу закончили, ручки положили, никто ничего больше не пишет. Отдохнули, помахали руками».</a:t>
            </a:r>
            <a:endParaRPr b="0" lang="en-US" sz="1900" spc="-1" strike="noStrike">
              <a:solidFill>
                <a:srgbClr val="ffffff"/>
              </a:solidFill>
              <a:latin typeface="Times New Roman"/>
            </a:endParaRPr>
          </a:p>
          <a:p>
            <a:pPr marL="582480" indent="-436320" algn="just">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Заголовок 1" descr=""/>
          <p:cNvPicPr/>
          <p:nvPr/>
        </p:nvPicPr>
        <p:blipFill>
          <a:blip r:embed="rId1"/>
          <a:stretch/>
        </p:blipFill>
        <p:spPr>
          <a:xfrm>
            <a:off x="476280" y="201600"/>
            <a:ext cx="8588520" cy="1676520"/>
          </a:xfrm>
          <a:prstGeom prst="rect">
            <a:avLst/>
          </a:prstGeom>
          <a:ln w="0">
            <a:noFill/>
          </a:ln>
        </p:spPr>
      </p:pic>
      <p:sp>
        <p:nvSpPr>
          <p:cNvPr id="538" name=""/>
          <p:cNvSpPr txBox="1"/>
          <p:nvPr/>
        </p:nvSpPr>
        <p:spPr>
          <a:xfrm>
            <a:off x="477360" y="1744200"/>
            <a:ext cx="8587080" cy="5132520"/>
          </a:xfrm>
          <a:prstGeom prst="rect">
            <a:avLst/>
          </a:prstGeom>
          <a:noFill/>
          <a:ln w="0">
            <a:noFill/>
          </a:ln>
        </p:spPr>
        <p:txBody>
          <a:bodyPr lIns="97200" rIns="97200" tIns="48600" bIns="48600" anchor="t">
            <a:normAutofit/>
          </a:bodyPr>
          <a:p>
            <a:pPr marL="582480" indent="-436320" algn="just">
              <a:lnSpc>
                <a:spcPct val="80000"/>
              </a:lnSpc>
              <a:spcBef>
                <a:spcPts val="3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Book Antiqua"/>
              </a:rPr>
              <a:t>Анализ результатов теста Тулуз-Пьерона состоит в подсчете общего количества выполненных заданий и числа допущенных ошибок. Для подсчета вам необходимо использовать ключ (см. приложение № 2), который необходимо перенести на прозрачную пленку. Для его изготовления наложите на приведенный в приложении № 2 ключ лист прозрачной пленки. К примеру, это может быть часть прозрачной папки для бумаг. Сначала несмываемым маркером вы наносите на прозрачной пленке два опорных крестика (один в левом верхнем, а другой - в правом нижнем углах). Затем в местах, где пленка накладывается на кружки, вы ставите косые вертикальные черточки. При этом очень важно, чтобы сам бланк теста и ключ к нему абсолютно совпадали по размерам!</a:t>
            </a:r>
            <a:endParaRPr b="0" lang="en-US" sz="1200" spc="-1" strike="noStrike">
              <a:solidFill>
                <a:srgbClr val="ffffff"/>
              </a:solidFill>
              <a:latin typeface="Times New Roman"/>
            </a:endParaRPr>
          </a:p>
          <a:p>
            <a:pPr marL="582480" indent="-436320" algn="just">
              <a:lnSpc>
                <a:spcPct val="80000"/>
              </a:lnSpc>
              <a:spcBef>
                <a:spcPts val="3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Book Antiqua"/>
              </a:rPr>
              <a:t>Далее вы приступаете собственно к анализу теста. Все помеченные вертикальной черточкой участки должны быть зачеркнуты, расположенные вне их - подчеркнуты. Если квадратик одновременно и зачеркнут, и подчеркнут, то это считается ошибкой. Подсчет ведется по каждой строчке, а затем отдельно суммируется общее количество сделанного и число ошибок. Далее следует подсчитать соотношение правильно выполненных заданий к общему числу сделанных заданий. В результате мы получаем дробь со значением от 0 до 1. Например, ребенок всего в 10 строчках и зачеркнул, и подчеркнул 291 квадратик. При этом он допустил 7 ошибок. Искомое соотношение правильно сделанного к общему числу равно 0,98 (291-7)/291=0,98.</a:t>
            </a:r>
            <a:endParaRPr b="0" lang="en-US" sz="1200" spc="-1" strike="noStrike">
              <a:solidFill>
                <a:srgbClr val="ffffff"/>
              </a:solidFill>
              <a:latin typeface="Times New Roman"/>
            </a:endParaRPr>
          </a:p>
          <a:p>
            <a:pPr marL="582480" indent="-436320" algn="just">
              <a:lnSpc>
                <a:spcPct val="80000"/>
              </a:lnSpc>
              <a:spcBef>
                <a:spcPts val="3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Book Antiqua"/>
              </a:rPr>
              <a:t>Общее количество сделанных заданий дает представление о динамике умственной деятельности ребенка. Нормальным считается результат от 180 до 290. Крайне низкий темп умственной деятельности имеет место при результате ниже 140. А вот дробное соотношение (от 0 до 1) правильно сделанных к общему числу заданий говорит нам об уровне саморегуляции и произвольности, присущих ребенку. В идеале, обнаружив, что им совершается много ошибок, ребенок должен снизить темп работы до оптимального соотношения между быстротой работы и ее качеством. Если же он торопится, стремясь сделать как можно больше, не обращая внимания на количество ошибок, значение нашей дроби уменьшается. Нормальный результат здесь - 0,91-0,95. Неприемлемо низким результатом является значение, ниже 0,88. При получении его можно с большой степенью вероятности прогнозировать серьезные проблемы в обучении ребенка. Они могут проявиться в виде неустойчивости внимания, быстрой утомляемости и невозможности сохранять требуемую работоспособность.</a:t>
            </a:r>
            <a:endParaRPr b="0" lang="en-US" sz="1200" spc="-1" strike="noStrike">
              <a:solidFill>
                <a:srgbClr val="ffffff"/>
              </a:solidFill>
              <a:latin typeface="Times New Roman"/>
            </a:endParaRPr>
          </a:p>
          <a:p>
            <a:pPr marL="582480" indent="-436320" algn="just">
              <a:lnSpc>
                <a:spcPct val="80000"/>
              </a:lnSpc>
              <a:spcBef>
                <a:spcPts val="3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Book Antiqua"/>
              </a:rPr>
              <a:t>О процессе вхождения в работу говорит некоторое построчное увеличение общего числа выполненных заданий при условии уменьшения количества ошибок. Внимательное наблюдение за поведением ребенка в классе позволит отметить также наличие или дефицит произвольности: вы можете заметить, способен ли он откладывать на некоторое время свои непосредственные желания и четко выполнять инструкции взрослого.</a:t>
            </a:r>
            <a:endParaRPr b="0" lang="en-US" sz="1200" spc="-1" strike="noStrike">
              <a:solidFill>
                <a:srgbClr val="ffffff"/>
              </a:solidFill>
              <a:latin typeface="Times New Roman"/>
            </a:endParaRPr>
          </a:p>
          <a:p>
            <a:pPr marL="582480" indent="-436320" algn="just">
              <a:lnSpc>
                <a:spcPct val="80000"/>
              </a:lnSpc>
              <a:spcBef>
                <a:spcPts val="3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810720" y="1865160"/>
            <a:ext cx="8207640" cy="3360960"/>
          </a:xfrm>
          <a:prstGeom prst="rect">
            <a:avLst/>
          </a:prstGeom>
          <a:noFill/>
          <a:ln w="0">
            <a:noFill/>
          </a:ln>
        </p:spPr>
        <p:txBody>
          <a:bodyPr lIns="97200" rIns="97200" tIns="48600" bIns="48600" anchor="t">
            <a:normAutofit/>
          </a:bodyPr>
          <a:p>
            <a:pPr marL="582480" indent="-436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582480" indent="-436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582480" indent="-4363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СПАСИБО ЗА ВНИМАНИЕ !</a:t>
            </a:r>
            <a:endParaRPr b="0" lang="en-US" sz="4000" spc="-1" strike="noStrike">
              <a:solidFill>
                <a:srgbClr val="ffffff"/>
              </a:solidFill>
              <a:latin typeface="Times New Roman"/>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Rectangle 2" descr=""/>
          <p:cNvPicPr/>
          <p:nvPr/>
        </p:nvPicPr>
        <p:blipFill>
          <a:blip r:embed="rId1"/>
          <a:stretch/>
        </p:blipFill>
        <p:spPr>
          <a:xfrm>
            <a:off x="476280" y="249120"/>
            <a:ext cx="8259840" cy="1201680"/>
          </a:xfrm>
          <a:prstGeom prst="rect">
            <a:avLst/>
          </a:prstGeom>
          <a:ln w="0">
            <a:noFill/>
          </a:ln>
        </p:spPr>
      </p:pic>
      <p:sp>
        <p:nvSpPr>
          <p:cNvPr id="496" name=""/>
          <p:cNvSpPr txBox="1"/>
          <p:nvPr/>
        </p:nvSpPr>
        <p:spPr>
          <a:xfrm>
            <a:off x="484200" y="1593720"/>
            <a:ext cx="8515440" cy="4851360"/>
          </a:xfrm>
          <a:prstGeom prst="rect">
            <a:avLst/>
          </a:prstGeom>
          <a:noFill/>
          <a:ln w="0">
            <a:noFill/>
          </a:ln>
        </p:spPr>
        <p:txBody>
          <a:bodyPr lIns="97200" rIns="97200" tIns="48600" bIns="48600" anchor="t">
            <a:normAutofit/>
          </a:bodyPr>
          <a:p>
            <a:pPr marL="582480" indent="-436320" algn="just">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бенка с СДВГ надо посадить рядом с детьми, имеющими схожие способности, не только образовательно-академические, но и с точки зрения уровня зрелости. Ребенок с СДВГ, вероятно, отстает по уровню зрелости от сверстников. Система градации класса по уровням предпочтительнее открытой, параллельной или комбинированной, поскольку таким детям трудно справляться с изменениями в уровнях работы. </a:t>
            </a:r>
            <a:endParaRPr b="0" lang="en-US" sz="1400" spc="-1" strike="noStrike">
              <a:solidFill>
                <a:srgbClr val="ffffff"/>
              </a:solidFill>
              <a:latin typeface="Times New Roman"/>
            </a:endParaRPr>
          </a:p>
          <a:p>
            <a:pPr marL="582480" indent="-4363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582480" indent="-4363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 повседневной деятельности необходим строгий, но удобный порядок. Это позволяет ребенку понять, чего от него ожидают, зная при этом, что его работу контролируют. Дети с СДВГ вообще хорошо реагируют на три "П": </a:t>
            </a:r>
            <a:endParaRPr b="0" lang="en-US" sz="1600" spc="-1" strike="noStrike">
              <a:solidFill>
                <a:srgbClr val="ffffff"/>
              </a:solidFill>
              <a:latin typeface="Times New Roman"/>
            </a:endParaRPr>
          </a:p>
          <a:p>
            <a:pPr marL="582480" indent="-436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вседневность, планомерность и повтор.</a:t>
            </a:r>
            <a:endParaRPr b="0" lang="en-US" sz="1600" spc="-1" strike="noStrike">
              <a:solidFill>
                <a:srgbClr val="ffffff"/>
              </a:solidFill>
              <a:latin typeface="Times New Roman"/>
            </a:endParaRPr>
          </a:p>
          <a:p>
            <a:pPr marL="582480" indent="-4363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Они зачастую имеют очень низкую самооценку и поэтому склонны быть в одиночестве, находясь в изоляции и рискуя стать жертвами других. И напротив, они могут вести себя агрессивно по отношению к сверстникам, и их необходимо контролировать, чтобы свести к минимуму проявления агрессии. Лучший способ справиться с подобной ситуацией – это отвлечь их внимание совершенно другим заданием. При этом положительную роль сыграет их неумение справляться с изменениями, поскольку они будут так поглощены попытками понять новое задание, что забудут любую начатую драку. Эта тактика срабатывает во многих случаях, когда необходимо преодолеть различные возникающие проблемы. </a:t>
            </a:r>
            <a:endParaRPr b="0" lang="en-US" sz="1600" spc="-1" strike="noStrike">
              <a:solidFill>
                <a:srgbClr val="ffffff"/>
              </a:solidFill>
              <a:latin typeface="Times New Roman"/>
            </a:endParaRPr>
          </a:p>
          <a:p>
            <a:pPr marL="582480" indent="-43632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77360" y="664920"/>
            <a:ext cx="8587080" cy="6211800"/>
          </a:xfrm>
          <a:prstGeom prst="rect">
            <a:avLst/>
          </a:prstGeom>
          <a:noFill/>
          <a:ln w="0">
            <a:noFill/>
          </a:ln>
        </p:spPr>
        <p:txBody>
          <a:bodyPr lIns="97200" rIns="97200" tIns="48600" bIns="48600" anchor="t">
            <a:normAutofit/>
          </a:bodyPr>
          <a:p>
            <a:pPr marL="582480" indent="-436320" algn="just">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Учитель должен строго контролировать класс, одновременно проявляя сочувствие и тепло. Большинство детей с СДВГ – очень эмоциональные и любящие. Они положительно реагируют на похвалу и личное внимание. Похвала должна быть краткой и частой: одного-единственного похлопывания по плечу в конце дня недостаточно. Негативное отношение может быть очень болезненным, особенно для ребенка с низкой самооценкой. Насколько это возможно, постарайтесь, чтобы на протяжении всего учебного года был один и тот же учитель. </a:t>
            </a:r>
            <a:endParaRPr b="0" lang="en-US" sz="2600" spc="-1" strike="noStrike">
              <a:solidFill>
                <a:srgbClr val="ffffff"/>
              </a:solidFill>
              <a:latin typeface="Times New Roman"/>
            </a:endParaRPr>
          </a:p>
          <a:p>
            <a:pPr marL="582480" indent="-436320" algn="just">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Давая ребенку задание, поддерживайте с ним зрительный контакт. Разбейте задание на части и давайте ребенку следующую часть только после того, как он полностью закончил предыдущую. Попросите ребенка повторять за вами вслух каждую часть, чтобы удостовериться в том, что он знает, чего от него ожидают. </a:t>
            </a:r>
            <a:endParaRPr b="0" lang="en-US" sz="2600" spc="-1" strike="noStrike">
              <a:solidFill>
                <a:srgbClr val="ffffff"/>
              </a:solidFill>
              <a:latin typeface="Times New Roman"/>
            </a:endParaRPr>
          </a:p>
          <a:p>
            <a:pPr marL="582480" indent="-43632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77360" y="450360"/>
            <a:ext cx="8587080" cy="6426360"/>
          </a:xfrm>
          <a:prstGeom prst="rect">
            <a:avLst/>
          </a:prstGeom>
          <a:noFill/>
          <a:ln w="0">
            <a:noFill/>
          </a:ln>
        </p:spPr>
        <p:txBody>
          <a:bodyPr lIns="97200" rIns="97200" tIns="48600" bIns="48600" anchor="t">
            <a:normAutofit/>
          </a:bodyPr>
          <a:p>
            <a:pPr marL="582480" indent="-4363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Таким детям больше подходят маленькие классы, в которых они меньше отвлекаются и которые предоставляют им лучшую возможность построить взаимоотношения с их сверстниками и учителем. Посадите их впереди класса или перед стеной. Это помогает сократить отвлекаемость. </a:t>
            </a:r>
            <a:endParaRPr b="0" lang="en-US" sz="1600" spc="-1" strike="noStrike">
              <a:solidFill>
                <a:srgbClr val="ffffff"/>
              </a:solidFill>
              <a:latin typeface="Times New Roman"/>
            </a:endParaRPr>
          </a:p>
          <a:p>
            <a:pPr marL="582480" indent="-4363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редства обучения имеют дополнительную ценность не только для детей с трудностями обучения, но и для одаренных детей с СДВГ, которые нуждаются в помощи, чтобы реализовать их способности. Терапия речи и трудотерапия в школе были бы полезны тем, кто в этом нуждается. </a:t>
            </a:r>
            <a:endParaRPr b="0" lang="en-US" sz="1600" spc="-1" strike="noStrike">
              <a:solidFill>
                <a:srgbClr val="ffffff"/>
              </a:solidFill>
              <a:latin typeface="Times New Roman"/>
            </a:endParaRPr>
          </a:p>
          <a:p>
            <a:pPr marL="582480" indent="-4363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Лекарства – это часть повседневной жизни многих детей с СДВГ. Учителя должны помогать родителям и проверять, принял ли ребенок лекарство. Это следует делать тихо и с пониманием. Недавно мы услышали об учителе, объявляющем целому классу, что "ученику Н пора принять психическую таблетку". Нет разницы между ребенком, принимающим лекарство при СДВГ, и ребенком, пьющем таблетки от диабета, эпилепсии, астмы или любого другого продолжительного состояния. </a:t>
            </a:r>
            <a:endParaRPr b="0" lang="en-US" sz="1600" spc="-1" strike="noStrike">
              <a:solidFill>
                <a:srgbClr val="ffffff"/>
              </a:solidFill>
              <a:latin typeface="Times New Roman"/>
            </a:endParaRPr>
          </a:p>
          <a:p>
            <a:pPr marL="582480" indent="-4363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ногие дети с СДВГ достигают лучших результатов, выполняя задание руками, а не устно. Успехи в ручной работе способствуют повышению их самооценки. Когда ребенок переходит в старшие классы, он часто бывает сбит с толку постоянной сменой учителей и кабинетов. Существенно важно помочь ему справиться с этой ситуацией. Если есть возможность, можно использовать постоянного классного ассистента, который будет переходить с ребенком из кабинета в кабинет. </a:t>
            </a:r>
            <a:endParaRPr b="0" lang="en-US" sz="1600" spc="-1" strike="noStrike">
              <a:solidFill>
                <a:srgbClr val="ffffff"/>
              </a:solidFill>
              <a:latin typeface="Times New Roman"/>
            </a:endParaRPr>
          </a:p>
          <a:p>
            <a:pPr marL="582480" indent="-436320" algn="just">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Неорганизованность, неспособность планировать и отделять главное от второстепенного являются для ребенка с СДВГ огромным недостатком на экзамене. Лучшая форма оценки для этих детей - непрерывная оценка их работы, в сочетании с короткими проверками. </a:t>
            </a:r>
            <a:endParaRPr b="0" lang="en-US" sz="1600" spc="-1" strike="noStrike">
              <a:solidFill>
                <a:srgbClr val="ffffff"/>
              </a:solidFill>
              <a:latin typeface="Times New Roman"/>
            </a:endParaRPr>
          </a:p>
          <a:p>
            <a:pPr marL="582480" indent="-436320" algn="ctr">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Учитесь работать с удовольствием с этими детьми, у них множество скрытых талантов, они могут многое дать. </a:t>
            </a:r>
            <a:endParaRPr b="0" lang="en-US" sz="1600" spc="-1" strike="noStrike">
              <a:solidFill>
                <a:srgbClr val="ffffff"/>
              </a:solidFill>
              <a:latin typeface="Times New Roman"/>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Заголовок 1" descr=""/>
          <p:cNvPicPr/>
          <p:nvPr/>
        </p:nvPicPr>
        <p:blipFill>
          <a:blip r:embed="rId1"/>
          <a:stretch/>
        </p:blipFill>
        <p:spPr>
          <a:xfrm>
            <a:off x="476280" y="298440"/>
            <a:ext cx="8588520" cy="1079640"/>
          </a:xfrm>
          <a:prstGeom prst="rect">
            <a:avLst/>
          </a:prstGeom>
          <a:ln w="0">
            <a:noFill/>
          </a:ln>
        </p:spPr>
      </p:pic>
      <p:graphicFrame>
        <p:nvGraphicFramePr>
          <p:cNvPr id="500" name=""/>
          <p:cNvGraphicFramePr/>
          <p:nvPr/>
        </p:nvGraphicFramePr>
        <p:xfrm>
          <a:off x="477720" y="1744560"/>
          <a:ext cx="8294760" cy="371520"/>
        </p:xfrm>
        <a:graphic>
          <a:graphicData uri="http://schemas.openxmlformats.org/drawingml/2006/table">
            <a:tbl>
              <a:tblPr/>
              <a:tblGrid>
                <a:gridCol w="4183200"/>
                <a:gridCol w="411156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ведение ученика</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едлагаемое решение</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bl>
          </a:graphicData>
        </a:graphic>
      </p:graphicFrame>
      <p:graphicFrame>
        <p:nvGraphicFramePr>
          <p:cNvPr id="501" name=""/>
          <p:cNvGraphicFramePr/>
          <p:nvPr/>
        </p:nvGraphicFramePr>
        <p:xfrm>
          <a:off x="474840" y="2236680"/>
          <a:ext cx="8407080" cy="428760"/>
        </p:xfrm>
        <a:graphic>
          <a:graphicData uri="http://schemas.openxmlformats.org/drawingml/2006/table">
            <a:tbl>
              <a:tblPr/>
              <a:tblGrid>
                <a:gridCol w="8407080"/>
              </a:tblGrid>
              <a:tr h="428760">
                <a:tc>
                  <a:txBody>
                    <a:bodyPr lIns="114480" rIns="114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Организация пространства в классе </a:t>
                      </a:r>
                      <a:endParaRPr b="0" lang="en-US" sz="2000" spc="-1" strike="noStrike">
                        <a:solidFill>
                          <a:srgbClr val="ffffff"/>
                        </a:solidFill>
                        <a:latin typeface="Arial"/>
                      </a:endParaRPr>
                    </a:p>
                  </a:txBody>
                  <a:tcPr anchor="t" marL="114480" marR="1144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502" name=""/>
          <p:cNvGraphicFramePr/>
          <p:nvPr/>
        </p:nvGraphicFramePr>
        <p:xfrm>
          <a:off x="428760" y="2593800"/>
          <a:ext cx="8394480" cy="4108680"/>
        </p:xfrm>
        <a:graphic>
          <a:graphicData uri="http://schemas.openxmlformats.org/drawingml/2006/table">
            <a:tbl>
              <a:tblPr/>
              <a:tblGrid>
                <a:gridCol w="4197240"/>
                <a:gridCol w="4197240"/>
              </a:tblGrid>
              <a:tr h="1589040">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Легко отвлекается на посторонние</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действия в классе или на происходящее в коридоре школы или за окном.</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Посадите ученика впереди или в центре класса, подальше от того, что может его отвлечь.</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120132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урачится в классе, чтобы привлечь к себе внимание.</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адите его возле ученика, который может служить положительным образцом для подражани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131868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 осознает личного пространства; тянется через парту, чтобы поговорить или дотронуться до других учеников.</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величьте расстояние между партам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Заголовок 1" descr=""/>
          <p:cNvPicPr/>
          <p:nvPr/>
        </p:nvPicPr>
        <p:blipFill>
          <a:blip r:embed="rId1"/>
          <a:stretch/>
        </p:blipFill>
        <p:spPr>
          <a:xfrm>
            <a:off x="476280" y="115920"/>
            <a:ext cx="8588520" cy="1427040"/>
          </a:xfrm>
          <a:prstGeom prst="rect">
            <a:avLst/>
          </a:prstGeom>
          <a:ln w="0">
            <a:noFill/>
          </a:ln>
        </p:spPr>
      </p:pic>
      <p:graphicFrame>
        <p:nvGraphicFramePr>
          <p:cNvPr id="504" name=""/>
          <p:cNvGraphicFramePr/>
          <p:nvPr/>
        </p:nvGraphicFramePr>
        <p:xfrm>
          <a:off x="477720" y="1593720"/>
          <a:ext cx="8587080" cy="4643640"/>
        </p:xfrm>
        <a:graphic>
          <a:graphicData uri="http://schemas.openxmlformats.org/drawingml/2006/table">
            <a:tbl>
              <a:tblPr/>
              <a:tblGrid>
                <a:gridCol w="4294440"/>
                <a:gridCol w="4292640"/>
              </a:tblGrid>
              <a:tr h="1443240">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Неспособен завершить работу в заданное врем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Дайте ему дополнительное время на выполнение поставленного задани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207972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орошо начинает выполнять задание, но к концу качество работы ухудшаетс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бивайте длинные задания на части; давайте более короткие задания или устанавливайте более короткие периоды работы.</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112068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му трудно следовать указаниям.</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ъединяйте письменные указания с устным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graphicFrame>
        <p:nvGraphicFramePr>
          <p:cNvPr id="505" name=""/>
          <p:cNvGraphicFramePr/>
          <p:nvPr/>
        </p:nvGraphicFramePr>
        <p:xfrm>
          <a:off x="484200" y="950760"/>
          <a:ext cx="8572320" cy="640080"/>
        </p:xfrm>
        <a:graphic>
          <a:graphicData uri="http://schemas.openxmlformats.org/drawingml/2006/table">
            <a:tbl>
              <a:tblPr/>
              <a:tblGrid>
                <a:gridCol w="4286160"/>
                <a:gridCol w="4286160"/>
              </a:tblGrid>
              <a:tr h="64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Поведение ученика</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Предлагаемое реше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bl>
          </a:graphicData>
        </a:graphic>
      </p:graphicFrame>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Заголовок 1" descr=""/>
          <p:cNvPicPr/>
          <p:nvPr/>
        </p:nvPicPr>
        <p:blipFill>
          <a:blip r:embed="rId1"/>
          <a:stretch/>
        </p:blipFill>
        <p:spPr>
          <a:xfrm>
            <a:off x="476280" y="298440"/>
            <a:ext cx="8588520" cy="1433520"/>
          </a:xfrm>
          <a:prstGeom prst="rect">
            <a:avLst/>
          </a:prstGeom>
          <a:ln w="0">
            <a:noFill/>
          </a:ln>
        </p:spPr>
      </p:pic>
      <p:graphicFrame>
        <p:nvGraphicFramePr>
          <p:cNvPr id="507" name=""/>
          <p:cNvGraphicFramePr/>
          <p:nvPr/>
        </p:nvGraphicFramePr>
        <p:xfrm>
          <a:off x="477720" y="1879560"/>
          <a:ext cx="8587080" cy="4929120"/>
        </p:xfrm>
        <a:graphic>
          <a:graphicData uri="http://schemas.openxmlformats.org/drawingml/2006/table">
            <a:tbl>
              <a:tblPr/>
              <a:tblGrid>
                <a:gridCol w="4149720"/>
                <a:gridCol w="4437360"/>
              </a:tblGrid>
              <a:tr h="1684440">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Неспособен долго удерживать внимание во время обсуждения учебного материала и/или конспектировани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Попросите одноклассника помогать ему конспектировать; задавайте ученику вопросы, чтобы поддержать его участие в уроке.</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90792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Жалуется, что на уроках ему скучно.</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арайтесь вовлечь ученика в ведение урока.</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116856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егко отвлекаетс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заметно для других подайте ему знак вернуться к заданию.</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116820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дает работы с ошибками, сделанными по невнимательност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айте ему 5 минут для проверки домашней или контрольной работы перед тем, как ее сдать.</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graphicFrame>
        <p:nvGraphicFramePr>
          <p:cNvPr id="508" name=""/>
          <p:cNvGraphicFramePr/>
          <p:nvPr/>
        </p:nvGraphicFramePr>
        <p:xfrm>
          <a:off x="484200" y="1308240"/>
          <a:ext cx="8501040" cy="639720"/>
        </p:xfrm>
        <a:graphic>
          <a:graphicData uri="http://schemas.openxmlformats.org/drawingml/2006/table">
            <a:tbl>
              <a:tblPr/>
              <a:tblGrid>
                <a:gridCol w="4108320"/>
                <a:gridCol w="439272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Поведение ученик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Предлагаемое реше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bl>
          </a:graphicData>
        </a:graphic>
      </p:graphicFrame>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Заголовок 1" descr=""/>
          <p:cNvPicPr/>
          <p:nvPr/>
        </p:nvPicPr>
        <p:blipFill>
          <a:blip r:embed="rId1"/>
          <a:stretch/>
        </p:blipFill>
        <p:spPr>
          <a:xfrm>
            <a:off x="476280" y="115920"/>
            <a:ext cx="8588520" cy="1427040"/>
          </a:xfrm>
          <a:prstGeom prst="rect">
            <a:avLst/>
          </a:prstGeom>
          <a:ln w="0">
            <a:noFill/>
          </a:ln>
        </p:spPr>
      </p:pic>
      <p:graphicFrame>
        <p:nvGraphicFramePr>
          <p:cNvPr id="510" name=""/>
          <p:cNvGraphicFramePr/>
          <p:nvPr/>
        </p:nvGraphicFramePr>
        <p:xfrm>
          <a:off x="477720" y="1665360"/>
          <a:ext cx="8587080" cy="5143320"/>
        </p:xfrm>
        <a:graphic>
          <a:graphicData uri="http://schemas.openxmlformats.org/drawingml/2006/table">
            <a:tbl>
              <a:tblPr/>
              <a:tblGrid>
                <a:gridCol w="4294440"/>
                <a:gridCol w="4292640"/>
              </a:tblGrid>
              <a:tr h="1028520">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Часто ведет себя вызывающе.</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28440" rIns="28440" tIns="28440" bIns="2844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Игнорируйте незначительные проявления неуместного поведени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102888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способен понять главное в уроке или задани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гайте ему сразу понять, что из чего следует, и сразу хвалите за правильные догадк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102852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крикивает ответы или перебивает других.</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агируйте на верные ответы только когда ученик поднял руку и вы его вызвал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102888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уждается в поощрении.</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иодически передавайте родителям сообщения о его успехах.</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1028520">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уждается в долгосрочной помощи для улучшения поведени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28440" rIns="28440" tIns="28440" bIns="2844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ключите с ним соглашение по вопросам поведения.</a:t>
                      </a:r>
                      <a:endParaRPr b="0" lang="en-US" sz="1800" spc="-1" strike="noStrike">
                        <a:solidFill>
                          <a:srgbClr val="ffffff"/>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graphicFrame>
        <p:nvGraphicFramePr>
          <p:cNvPr id="511" name=""/>
          <p:cNvGraphicFramePr/>
          <p:nvPr/>
        </p:nvGraphicFramePr>
        <p:xfrm>
          <a:off x="484200" y="1093680"/>
          <a:ext cx="8574120" cy="639720"/>
        </p:xfrm>
        <a:graphic>
          <a:graphicData uri="http://schemas.openxmlformats.org/drawingml/2006/table">
            <a:tbl>
              <a:tblPr/>
              <a:tblGrid>
                <a:gridCol w="4251240"/>
                <a:gridCol w="432288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Поведение ученик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Предлагаемое решени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bl>
          </a:graphicData>
        </a:graphic>
      </p:graphicFrame>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01:35Z</dcterms:created>
  <dc:creator>Кирилл</dc:creator>
  <dc:description/>
  <dc:language>en-US</dc:language>
  <cp:lastModifiedBy>Master</cp:lastModifiedBy>
  <dcterms:modified xsi:type="dcterms:W3CDTF">2010-10-20T11:23:14Z</dcterms:modified>
  <cp:revision>31</cp:revision>
  <dc:subject/>
  <dc:title>Слайд 1</dc:title>
</cp:coreProperties>
</file>